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06B5-4B00-43CF-99F9-63B99EB57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2516-7C40-478D-B6D3-676D2B40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6453-1268-4C97-BB03-3B81856E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8E10-2B33-4D28-946B-0B8617536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8C6E-A95F-4BED-AA39-0540F828D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AAA3-628A-435E-BE00-FCDDB454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4856-23E3-49B0-9DED-0310AB50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EB9D-7C99-43F0-A698-BA3458F1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9AF6-E04D-4D38-BC48-C29AC5C8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BF32-926F-4BC4-B600-9233438C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3041-CB11-420E-97EE-E6D3A6F1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0C93-75E9-47FD-BFEE-02D9D61A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1735-D6CF-4A52-866A-EB4A3872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B443-67D9-42FD-AE88-31CC0689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18A0-1EB2-4843-B73E-3D4A30F4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6C78-E0EF-4F82-965F-9FEF8B6A6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1189-62EB-4646-B351-58B12B481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D25A-DACA-494E-982D-F5362BB5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00F1-824B-46F7-B5B9-7061D311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5F8F-B372-49F0-A4CB-0D6200B9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E483-9804-4384-95A1-ACF5BB55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6484-7747-4DBA-A44C-8310DBCE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F840-7942-418F-9D4C-D9E01851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5EE2-2377-4901-BC07-2CFCA510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DA2F-A0FF-462C-BF15-292656C971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CF5A-FD3F-4C40-92B7-51885C9D6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22068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EP Use case 18: Weighted average of member childr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85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ighted average of its dimensional children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y another primary i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0" y="2332080"/>
            <a:ext cx="4038480" cy="148104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8001000" cy="23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A524-0D3A-40EA-A286-1F92B36EB1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cel formula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ke PD controlling fact, get PD and EV of dimensional childr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eneral variable for PDxEV member match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83818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778F-FF89-4C82-88CC-593DDEB0F0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6868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E8DA-63C7-47AD-B107-FDB1DD21A3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1:50:03Z</dcterms:modified>
  <cp:revision>197</cp:revision>
  <dc:subject/>
  <dc:title>Materials preparation</dc:title>
</cp:coreProperties>
</file>