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1B0C-66B2-45D0-A331-A060FB856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6F1E-2ED9-48F8-9AD4-F9109D8E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83F6-19A0-49AF-9715-02A0F215F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1C40-F482-47FB-A546-665C707A7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94EF-EC8E-4F7A-A2EC-43E88A8F2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E56D1-BA0B-45A0-A98F-36E622E3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F19B-D98D-49A7-B5EF-13BF80EB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4508-8EA0-431A-9B91-3BB8B0FE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579A-A791-4158-91E8-C1FE1E20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824D-30EB-45C8-9FE4-A8FACF19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5F8A-A226-46FE-95C2-21B43360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602D-AEA4-480E-8966-3673ABE5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6826-E360-4686-84C6-B5BFD59B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71A3-CAB4-4933-8900-E4165E5C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DC2C-1797-4C11-99D4-162F269B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01B8-E99F-44E8-8094-907674EC7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089A-800E-438C-906E-09FFD9030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9F7E-BF63-4200-B213-E854CC59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F73B-86A6-430E-AC72-21E27996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A6ED-ED60-469E-93C6-1C4BA849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99BA-B0D3-4581-8C4E-B2F6300D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3810-5A30-4959-B84F-2E3E57A1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4449-AC5C-476B-816C-57982596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327E-9754-4585-8F00-F1F15CD4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523D-ACEB-42E9-A9A0-7D9A456AFC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2ED6-4EAD-4A8A-BC50-1EAF15E03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22068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EP Use case 18: Weighted average of member childr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85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ighted average of its dimensional children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y another primary i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0" y="2332080"/>
            <a:ext cx="4038480" cy="148104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8001000" cy="23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9F88-84C7-4BF5-AA58-9C8101DDE25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cel formula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ke PD controlling fact, get PD and EV of dimensional childr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eneral variable for PDxEV member match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83818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6CE1-B5D7-4468-97D9-EFED70F090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6868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DCB3-E3FC-4D35-819A-5585917CA0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1:50:03Z</dcterms:modified>
  <cp:revision>197</cp:revision>
  <dc:subject/>
  <dc:title>Materials preparation</dc:title>
</cp:coreProperties>
</file>