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7DDC-A63F-4B49-9F79-517A2DC61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404C-127E-4885-9A67-C6575D8C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1121-6820-45CF-8856-79369DCAB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9B8E-4544-4B33-A8A8-06163A4D2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B61E-7C85-493E-8E40-40EF79AB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A83E-550D-4E61-9330-CF1699F8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59BD-1BF2-4769-AD63-6CE339AF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F498-3F08-4FCC-9117-0E8C2993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B8F4-0FC5-413C-BAFB-7E9A95E1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C7B9-FAD8-4D66-ACAA-D35CC1AF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FC04-2C5C-4DE0-8BCE-440141DE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B86F-60CB-4C50-B643-9BBE7CCD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C688-A1ED-4E21-9383-17AB7523F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92760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duplicated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gregation consist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914400" y="1192320"/>
          <a:ext cx="7620120" cy="55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92320"/>
                    <a:ext cx="7620120" cy="55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8-01-31T17:52:31Z</dcterms:modified>
  <cp:revision>2</cp:revision>
  <dc:subject/>
  <dc:title>Dimension aggregation</dc:title>
</cp:coreProperties>
</file>