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7BBA-7EFD-4FC8-9E8F-70789EAA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2ABB-E24C-4A69-8FF6-8BC0FFE4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B967-C54C-4654-A318-B8ECD2BE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A036-8DF5-471F-94E7-8E466B5B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875-F9D7-45BB-A639-635DA4C9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E445-70D8-4C4A-8B60-47AEF57B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3F17-887D-491D-8665-2B03A37D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8651-4D96-44BA-BF15-C4B59CA2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E5ED-CD28-4F4D-9F2B-072E38BA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34D-B3B2-4FA9-BD86-4B494758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D25-2F25-41CF-B564-B735802B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72F-3A33-484C-A46B-98D14008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0A71-265C-4A9D-A827-4E7493A1B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92760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duplicated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regation consist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1192320"/>
          <a:ext cx="7620120" cy="55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92320"/>
                    <a:ext cx="7620120" cy="55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8-01-31T17:52:31Z</dcterms:modified>
  <cp:revision>2</cp:revision>
  <dc:subject/>
  <dc:title>Dimension aggregation</dc:title>
</cp:coreProperties>
</file>