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E518-6A95-4CB8-A536-3E24EAA59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5826-512B-4402-B8F0-AF723D894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CAE2-F824-4208-810D-0ECDBE544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F38E-28E6-4201-B2C8-B495A7D13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02CB5-BE9C-4F1D-BDDC-8CEAD5DE0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AE786-2668-4223-B417-61A5CC92B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BC665-96D5-48A9-9AA7-925577907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EBA01-9148-4E9E-8E58-5B2DCF28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2722B-5363-49F3-BD49-C08AD7CA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1A730-0633-4F45-9D8B-C57B1496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82893-749A-44EC-9DC9-85FAC27F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86E6-323B-4678-8AA6-8F4246EC9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31322-F701-42B2-9022-41545536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0EBBF-495A-4E84-A918-B07D760A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92E0B-9F0C-41DF-8922-90F166148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16521-872E-49C8-9F6A-8B2B4164E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4784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18200" y="165240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748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4784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18200" y="3954240"/>
            <a:ext cx="282852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956CF-C1CC-458E-B7ED-C835A0CCC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167D-7884-46AE-977B-DDCE5941A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6F39-E251-4CBA-9C45-A240ECB38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D9DE-7A45-45E7-AAC3-1D41CBC15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6280" y="138240"/>
            <a:ext cx="7344000" cy="39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24F0-52BE-476B-AFAA-C4D531E68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EB01-D6CF-4D9B-BF73-1D2A7169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920" y="395424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BCBE-8293-4F1A-AC77-0886A59E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652400"/>
            <a:ext cx="42868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7480" y="3954240"/>
            <a:ext cx="8785080" cy="21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ED55-A31F-4992-8258-377FF211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3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5720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70760" y="6221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575EF-B928-404A-9FB6-116A7CE940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680" y="550440"/>
            <a:ext cx="82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91960" y="619560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746080" y="6195600"/>
            <a:ext cx="398124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46440" y="6195600"/>
            <a:ext cx="1676520" cy="4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57A19-EFD3-43E9-9D54-40E3375B9A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6280" y="22068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EP Use case 18: Weighted average of member childre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785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eighted average of its dimensional children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y another primary ite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286000" y="2332080"/>
            <a:ext cx="4038480" cy="148104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57200" y="3886200"/>
            <a:ext cx="8001000" cy="230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A6BD-FB01-445D-973C-FAE51C918C2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ed average of member childr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7480" y="1652400"/>
            <a:ext cx="87850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xcel formulas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ake PD controlling fact, get PD and EV of dimensional childr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eneral variable for PDxEV member matching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04920" y="2286000"/>
            <a:ext cx="838188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1BF6-51AB-4257-ABDA-4078706D45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6280" y="138240"/>
            <a:ext cx="73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ed average of member childr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28600" y="990720"/>
            <a:ext cx="8686800" cy="563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7B17-9A94-4288-B566-3DFE9A1B68B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4T20:38:47Z</dcterms:created>
  <dc:creator>Dan A</dc:creator>
  <dc:description/>
  <dc:language>en-US</dc:language>
  <cp:lastModifiedBy>Herm Fischer</cp:lastModifiedBy>
  <cp:lastPrinted>2002-02-20T16:15:59Z</cp:lastPrinted>
  <dcterms:modified xsi:type="dcterms:W3CDTF">2007-10-01T01:50:03Z</dcterms:modified>
  <cp:revision>197</cp:revision>
  <dc:subject/>
  <dc:title>Materials preparation</dc:title>
</cp:coreProperties>
</file>