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736-2427-4DE8-AA62-EB77D555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17B-8469-410E-AB9B-B1F4BF6D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9F72-CD7C-45C4-9936-F1AD2937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1B7-78BA-44DF-A801-3BE33A3C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DCF-DEAC-4C4B-BEDC-C02A3FCF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912-E64F-4B77-9378-3804780B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6ED-0FC2-4B3A-BA38-1D1C6C92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849-D965-4ED1-8D59-7DEE21F7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19C-9701-4816-A525-52467FE7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D42-A344-4BCC-BEA0-AB6366F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7A0-217E-4855-84A0-C5EC0306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28F7-5C69-46BB-8ED9-406EC436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39D3-C76A-4902-BD2F-7890D0FB6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mension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47048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ggregation of each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&amp; region dimensions have member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33840" cy="3699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354640" cy="23968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rmaceutic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356000" cy="440712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77840" y="1652760"/>
            <a:ext cx="393696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riods for used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dimensions per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Charlie’s aggregation exampl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dimensions to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require checking of aggregation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 shown for product dimen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ion is same except for dimension n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s mixed explicit/implicit dimensio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dimension che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1:41:00Z</dcterms:created>
  <dc:creator>Herm Fischer</dc:creator>
  <dc:description/>
  <dc:language>en-US</dc:language>
  <cp:lastModifiedBy>Herm Fischer</cp:lastModifiedBy>
  <dcterms:modified xsi:type="dcterms:W3CDTF">2007-10-01T01:42:19Z</dcterms:modified>
  <cp:revision>1</cp:revision>
  <dc:subject/>
  <dc:title>Dimension aggregation</dc:title>
</cp:coreProperties>
</file>