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79C-C71D-4F2B-91A0-3E677648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D49-A3AD-48C0-89D9-781BD050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709-1358-441E-945D-24A2A5BF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63D-CD3C-4A4C-ACC2-BDE4E910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697E-346B-4BC8-BECF-1FAD44CA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6CB0-D694-455E-90EB-DB5FD3D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A4A-80E4-4B36-A1CC-9762FF0C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27D0-928B-4C3D-A7C8-2BF8F5A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FF46-6ED6-4B9B-B57E-88C00C51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DB42-DCC1-41EF-B312-10D4825A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AE8F-A7C6-4146-95F3-C553DB6E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411-BEC8-4CD5-B577-CD1A5679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EBFC-76B0-4D93-85AA-D7A2A404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8B48-7CA2-4361-88D3-C99A0BB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4B33-D465-46B8-AE15-B461085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8B8-F41C-4FC7-92F1-EECC5341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2DC4-CBE4-4478-ACFC-7B58B36B7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C39-2AB9-4B95-9FD6-E9B28A1A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0C13-9705-40F4-9D1B-010D2275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5B1-9613-45D8-BFC2-9736C355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FE3-099A-4F4E-802A-8119BB69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04E-7733-4F61-9455-4B18B82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5561-F251-48ED-B3E6-ACC086E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DAA-7E40-4008-A17A-E85AB12A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D9B3-89CB-4E32-B173-E5F6BDE4E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A94C-1F66-4B59-AF4B-2104320C7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trial balance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6920" y="224640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0400" y="44197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eriod’s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295280" y="2133720"/>
            <a:ext cx="3733920" cy="3808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371600" y="4191120"/>
            <a:ext cx="3505320" cy="4572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327672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D – d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C - cre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38680" y="2971440"/>
            <a:ext cx="457200" cy="60948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457200" cy="12193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Check if sections are in balance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D’ siblings) = </a:t>
            </a:r>
            <a:br>
              <a:rPr sz="1800"/>
            </a:b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um(amts with ‘C’ sibl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1752480"/>
            <a:ext cx="76320" cy="190512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733920"/>
            <a:ext cx="76320" cy="1904760"/>
          </a:xfrm>
          <a:custGeom>
            <a:avLst/>
            <a:gdLst>
              <a:gd name="textAreaLeft" fmla="*/ 0 w 76320"/>
              <a:gd name="textAreaRight" fmla="*/ 27360 w 7632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619760" y="2743200"/>
            <a:ext cx="533160" cy="297180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4724280"/>
            <a:ext cx="152280" cy="990720"/>
          </a:xfrm>
          <a:prstGeom prst="line">
            <a:avLst/>
          </a:prstGeom>
          <a:ln cap="sq" w="12600">
            <a:solidFill>
              <a:srgbClr val="ff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5DC-32A5-4369-BC17-120AF2FA7B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ust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ed to test if sibling of amount is credit co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est=“../gl-cor:debitCreditCode eq ‘D’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3200400"/>
            <a:ext cx="1371600" cy="45720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657600"/>
            <a:ext cx="609480" cy="3049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8FCF-F744-4B41-9822-E960DC1346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ial balance chec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0880" y="1146240"/>
            <a:ext cx="830592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C833-1106-4DB7-BC20-A8AD4A4092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ue filt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78508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Value matches an XPath 2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ot 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l te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ecision expres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03F-28B4-4B5F-97B6-6ED20BCBA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09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balance-brought-forw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ID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5100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MainDescription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upplies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ccountType …&gt;account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accoun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amount …&gt;242678.26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debitCreditCode …"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xbrlInclude …&gt;beginning_balance&lt;/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xbrlInfo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qualifierEntry …&gt;</a:t>
            </a:r>
            <a:r>
              <a:rPr b="1" lang="en-US" sz="1300" spc="-1" strike="noStrike">
                <a:solidFill>
                  <a:srgbClr val="990000"/>
                </a:solidFill>
                <a:latin typeface="Arial"/>
              </a:rPr>
              <a:t>stand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…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gl-cor:entryDetai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entry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gl-cor:accountingEntries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/ xbrli:xbr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209680"/>
            <a:ext cx="152640" cy="1905120"/>
          </a:xfrm>
          <a:custGeom>
            <a:avLst/>
            <a:gdLst>
              <a:gd name="textAreaLeft" fmla="*/ 97560 w 152640"/>
              <a:gd name="textAreaRight" fmla="*/ 153000 w 1526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7080" y="281952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ggregate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3581280"/>
            <a:ext cx="1752840" cy="533520"/>
          </a:xfrm>
          <a:prstGeom prst="ellipse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6960" y="4038480"/>
            <a:ext cx="25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skip ending_bal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80F-53D9-4F96-A5D5-F9CB1F30DA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compu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8600" y="1136520"/>
            <a:ext cx="8534520" cy="556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D02-5415-4F0C-8561-BA8132DC78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L ending balance te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ded 2 more variab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each accou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C’ (cred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 amount for ending-balance entry with ‘D’ (debit)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equation to 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(credits which are not ending-balance -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debits which are not ending-balance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redit which is ending-balance –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bit which is not ending-balance) &lt; 1.00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03D-1D31-4F1B-9354-533E73F4F3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2:04:19Z</dcterms:modified>
  <cp:revision>198</cp:revision>
  <dc:subject/>
  <dc:title>Materials preparation</dc:title>
</cp:coreProperties>
</file>