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6EE63-8544-416B-BB76-F80090FDD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7480" y="395424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054D5-2430-4654-A2AE-8732A3754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92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BF995-3CF4-48B4-99A3-7B8A02F4A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4784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1820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748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4784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1820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3BFF1-88D3-4679-93DE-AC0BCA6B3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C8E64-C12A-4AA8-856B-599E000D8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3AD1E-AC22-40EB-982A-1B12F018A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70168-D978-405C-B50C-C74F22D9B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6F44D-E0EC-4491-B27E-C3DE038B2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E1490-2844-495C-BF06-54F07D580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206280" y="138240"/>
            <a:ext cx="7344000" cy="39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49892-2E34-44DF-8225-8D57E4837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5C499-6F14-48E4-92C4-B854BB9A5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CE942-4C48-48E3-83C4-4BA62D814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92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521E9-3817-4108-8ABB-E09307311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21172-A692-4B83-92B1-8435D3BE9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77480" y="395424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A49B2-6696-43C4-8602-51B5CCBAB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92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9175D-ECB8-4146-8BDF-8250D1EA5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4784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1820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7748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4784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1820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E3864-6ED4-402C-A13B-C6A57B983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31BB7-771A-4795-9A6A-76DCAD824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2A9E3-C203-4E75-A889-948E7B71F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C18FF-70B6-49C4-8230-F457CC7E6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06280" y="138240"/>
            <a:ext cx="7344000" cy="39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13524-24A1-428B-B0E5-FAA6126C1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C6C58-5671-4747-BA27-BC4C6D4AD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92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73BB3-DDC5-4218-AA83-36FBD31F8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F7F8A-563B-4644-AE7D-AA02B6AA2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53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57200" y="6248520"/>
            <a:ext cx="28940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70760" y="6221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40176-EA17-4370-8B23-B924E25777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4680" y="550440"/>
            <a:ext cx="823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291960" y="619560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2746080" y="6195600"/>
            <a:ext cx="3981240" cy="45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246440" y="6195600"/>
            <a:ext cx="1676520" cy="45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CF8EB-012B-4612-9E73-F5F7C873A5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L trial balance check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7091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&lt;xbrli:xbrl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&lt;gl-cor:accountingEntries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&lt;gl-cor:entryHeader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&lt;gl-cor:qualifierEntry …&gt;</a:t>
            </a:r>
            <a:r>
              <a:rPr b="1" lang="en-US" sz="1700" spc="-1" strike="noStrike">
                <a:solidFill>
                  <a:srgbClr val="990000"/>
                </a:solidFill>
                <a:latin typeface="Arial"/>
              </a:rPr>
              <a:t>balance-brought-forward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&lt;/ …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&lt;gl-cor:entryDetail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&lt;gl-cor:amount …&gt;242678.26&lt;/ …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&lt;gl-cor:debitCreditCode …"&gt;</a:t>
            </a:r>
            <a:r>
              <a:rPr b="1" lang="en-US" sz="1700" spc="-1" strike="noStrike">
                <a:solidFill>
                  <a:srgbClr val="990000"/>
                </a:solidFill>
                <a:latin typeface="Arial"/>
              </a:rPr>
              <a:t>D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&lt;/ …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&lt;/gl-cor:entryDetail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&lt;/ gl-cor:entryHeader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&lt;gl-cor:entryHeader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&lt;gl-cor:qualifierEntry …&gt;</a:t>
            </a:r>
            <a:r>
              <a:rPr b="1" lang="en-US" sz="1700" spc="-1" strike="noStrike">
                <a:solidFill>
                  <a:srgbClr val="990000"/>
                </a:solidFill>
                <a:latin typeface="Arial"/>
              </a:rPr>
              <a:t>standard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&lt;/ …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&lt;gl-cor:entryDetail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&lt;gl-cor:amount …&gt;242678.26&lt;/ …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&lt;gl-cor:debitCreditCode …"&gt;</a:t>
            </a:r>
            <a:r>
              <a:rPr b="1" lang="en-US" sz="1700" spc="-1" strike="noStrike">
                <a:solidFill>
                  <a:srgbClr val="990000"/>
                </a:solidFill>
                <a:latin typeface="Arial"/>
              </a:rPr>
              <a:t>D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&lt;/ …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&lt;/gl-cor:entryDetail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&lt;/ gl-cor:entryHeader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&lt;/ gl-cor:accountingEntries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&lt;/ xbrli:xbrl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06920" y="2246400"/>
            <a:ext cx="115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ff"/>
                </a:solidFill>
                <a:latin typeface="Arial"/>
              </a:rPr>
              <a:t>account</a:t>
            </a:r>
            <a:br>
              <a:rPr sz="1800"/>
            </a:br>
            <a:r>
              <a:rPr b="1" lang="en-US" sz="1800" spc="-1" strike="noStrike">
                <a:solidFill>
                  <a:srgbClr val="ff00ff"/>
                </a:solidFill>
                <a:latin typeface="Arial"/>
              </a:rPr>
              <a:t>balan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30400" y="4419720"/>
            <a:ext cx="110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ff"/>
                </a:solidFill>
                <a:latin typeface="Arial"/>
              </a:rPr>
              <a:t>period’s</a:t>
            </a:r>
            <a:br>
              <a:rPr sz="1800"/>
            </a:br>
            <a:r>
              <a:rPr b="1" lang="en-US" sz="1800" spc="-1" strike="noStrike">
                <a:solidFill>
                  <a:srgbClr val="ff00ff"/>
                </a:solidFill>
                <a:latin typeface="Arial"/>
              </a:rPr>
              <a:t>chan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1295280" y="2133720"/>
            <a:ext cx="3733920" cy="380880"/>
          </a:xfrm>
          <a:prstGeom prst="line">
            <a:avLst/>
          </a:prstGeom>
          <a:ln cap="sq" w="12600">
            <a:solidFill>
              <a:srgbClr val="ff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371600" y="4191120"/>
            <a:ext cx="3505320" cy="457200"/>
          </a:xfrm>
          <a:prstGeom prst="line">
            <a:avLst/>
          </a:prstGeom>
          <a:ln cap="sq" w="12600">
            <a:solidFill>
              <a:srgbClr val="ff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97480" y="3276720"/>
            <a:ext cx="117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ff"/>
                </a:solidFill>
                <a:latin typeface="Arial"/>
              </a:rPr>
              <a:t>D – deb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ff"/>
                </a:solidFill>
                <a:latin typeface="Arial"/>
              </a:rPr>
              <a:t>C - cred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5638680" y="2971440"/>
            <a:ext cx="457200" cy="609480"/>
          </a:xfrm>
          <a:prstGeom prst="line">
            <a:avLst/>
          </a:prstGeom>
          <a:ln cap="sq" w="12600">
            <a:solidFill>
              <a:srgbClr val="ff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638680" y="3581280"/>
            <a:ext cx="457200" cy="1219320"/>
          </a:xfrm>
          <a:prstGeom prst="line">
            <a:avLst/>
          </a:prstGeom>
          <a:ln cap="sq" w="12600">
            <a:solidFill>
              <a:srgbClr val="ff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876920" y="5715000"/>
            <a:ext cx="4114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ff"/>
                </a:solidFill>
                <a:uFillTx/>
                <a:latin typeface="Arial"/>
              </a:rPr>
              <a:t>Check if sections are in balance</a:t>
            </a:r>
            <a:r>
              <a:rPr b="1" lang="en-US" sz="1800" spc="-1" strike="noStrike">
                <a:solidFill>
                  <a:srgbClr val="ff00ff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ff"/>
                </a:solidFill>
                <a:latin typeface="Arial"/>
              </a:rPr>
              <a:t>sum(amts with ‘D’ siblings) = </a:t>
            </a:r>
            <a:br>
              <a:rPr sz="1800"/>
            </a:br>
            <a:r>
              <a:rPr b="1" lang="en-US" sz="1800" spc="-1" strike="noStrike">
                <a:solidFill>
                  <a:srgbClr val="ff00ff"/>
                </a:solidFill>
                <a:latin typeface="Arial"/>
              </a:rPr>
              <a:t>sum(amts with ‘C’ sibling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924680" y="1752480"/>
            <a:ext cx="76320" cy="1905120"/>
          </a:xfrm>
          <a:custGeom>
            <a:avLst/>
            <a:gdLst>
              <a:gd name="textAreaLeft" fmla="*/ 0 w 76320"/>
              <a:gd name="textAreaRight" fmla="*/ 27360 w 76320"/>
              <a:gd name="textAreaTop" fmla="*/ 49680 h 1905120"/>
              <a:gd name="textAreaBottom" fmla="*/ 1855440 h 1905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cap="sq"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858000" y="3733920"/>
            <a:ext cx="76320" cy="1904760"/>
          </a:xfrm>
          <a:custGeom>
            <a:avLst/>
            <a:gdLst>
              <a:gd name="textAreaLeft" fmla="*/ 0 w 76320"/>
              <a:gd name="textAreaRight" fmla="*/ 27360 w 76320"/>
              <a:gd name="textAreaTop" fmla="*/ 49680 h 1904760"/>
              <a:gd name="textAreaBottom" fmla="*/ 1855080 h 1904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cap="sq"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7619760" y="2743200"/>
            <a:ext cx="533160" cy="2971800"/>
          </a:xfrm>
          <a:prstGeom prst="line">
            <a:avLst/>
          </a:prstGeom>
          <a:ln cap="sq" w="12600">
            <a:solidFill>
              <a:srgbClr val="ff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086600" y="4724280"/>
            <a:ext cx="152280" cy="990720"/>
          </a:xfrm>
          <a:prstGeom prst="line">
            <a:avLst/>
          </a:prstGeom>
          <a:ln cap="sq" w="12600">
            <a:solidFill>
              <a:srgbClr val="ff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2D93F-2CD6-4DE7-9D32-7E82E54B6A0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eneral filte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8785080" cy="440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Just an XPath 2 expressio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ed to test if sibling of amount is credit cod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&lt;gl-cor:entryDetail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&lt;gl-cor:amount …&gt;242678.26&lt;/ …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&lt;gl-cor:debitCreditCode …"&gt;</a:t>
            </a: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&lt;/ …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&lt;/gl-cor:entryDetail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est=“../gl-cor:debitCreditCode eq ‘D’”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410080" y="3200400"/>
            <a:ext cx="1371600" cy="457200"/>
          </a:xfrm>
          <a:prstGeom prst="ellipse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400800" y="3657600"/>
            <a:ext cx="609480" cy="304920"/>
          </a:xfrm>
          <a:prstGeom prst="ellipse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D0137-E359-4ACD-97F7-506BC4F28D0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rial balance check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380880" y="1146240"/>
            <a:ext cx="8305920" cy="5559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18541-7E19-41C5-8A42-9CBA32C1F53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alue filte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8785080" cy="440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Value matches an XPath 2 expressio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Not Nil tes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Nil tes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Precision expressio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DAEB4-9E50-45F8-9D23-404A02423B4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L ending balance comput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7091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xbrli:xbrl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gl-cor:accountingEntries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gl-cor:entry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gl-cor:qualifierEntry …&gt;</a:t>
            </a:r>
            <a:r>
              <a:rPr b="1" lang="en-US" sz="1300" spc="-1" strike="noStrike">
                <a:solidFill>
                  <a:srgbClr val="990000"/>
                </a:solidFill>
                <a:latin typeface="Arial"/>
              </a:rPr>
              <a:t>balance-brought-forward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/ …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gl-cor:entryDetail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gl-cor:account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gl-cor:accountMainID …&gt;</a:t>
            </a:r>
            <a:r>
              <a:rPr b="1" lang="en-US" sz="1300" spc="-1" strike="noStrike">
                <a:solidFill>
                  <a:srgbClr val="990000"/>
                </a:solidFill>
                <a:latin typeface="Arial"/>
              </a:rPr>
              <a:t>5100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/ …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gl-cor:accountMainDescription …&gt;</a:t>
            </a:r>
            <a:r>
              <a:rPr b="1" lang="en-US" sz="1300" spc="-1" strike="noStrike">
                <a:solidFill>
                  <a:srgbClr val="990000"/>
                </a:solidFill>
                <a:latin typeface="Arial"/>
              </a:rPr>
              <a:t>Supplies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/ …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gl-cor:accountType …&gt;account&lt;/ …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/gl-cor:account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gl-cor:amount …&gt;242678.26&lt;/ …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gl-cor:debitCreditCode …"&gt;</a:t>
            </a:r>
            <a:r>
              <a:rPr b="1" lang="en-US" sz="1300" spc="-1" strike="noStrike">
                <a:solidFill>
                  <a:srgbClr val="990000"/>
                </a:solidFill>
                <a:latin typeface="Arial"/>
              </a:rPr>
              <a:t>D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/ …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gl-cor:xbrlInfo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gl-cor:xbrlInclude …&gt;beginning_balance&lt;/…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/gl-cor:xbrlInfo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/gl-cor:entryDetail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/ gl-cor:entry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gl-cor:entry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gl-cor:qualifierEntry …&gt;</a:t>
            </a:r>
            <a:r>
              <a:rPr b="1" lang="en-US" sz="1300" spc="-1" strike="noStrike">
                <a:solidFill>
                  <a:srgbClr val="990000"/>
                </a:solidFill>
                <a:latin typeface="Arial"/>
              </a:rPr>
              <a:t>standard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/ …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gl-cor:entryDetail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/gl-cor:entryDetail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/ gl-cor:entry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/ gl-cor:accountingEntries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/ xbrli:xbrl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895480" y="2209680"/>
            <a:ext cx="152640" cy="1905120"/>
          </a:xfrm>
          <a:custGeom>
            <a:avLst/>
            <a:gdLst>
              <a:gd name="textAreaLeft" fmla="*/ 97560 w 152640"/>
              <a:gd name="textAreaRight" fmla="*/ 153000 w 152640"/>
              <a:gd name="textAreaTop" fmla="*/ 49680 h 1905120"/>
              <a:gd name="textAreaBottom" fmla="*/ 1855440 h 1905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297080" y="2819520"/>
            <a:ext cx="160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ff"/>
                </a:solidFill>
                <a:latin typeface="Arial"/>
              </a:rPr>
              <a:t>aggregate b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ff"/>
                </a:solidFill>
                <a:latin typeface="Arial"/>
              </a:rPr>
              <a:t>accou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638680" y="3581280"/>
            <a:ext cx="1752840" cy="533520"/>
          </a:xfrm>
          <a:prstGeom prst="ellipse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096960" y="4038480"/>
            <a:ext cx="255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ff"/>
                </a:solidFill>
                <a:latin typeface="Arial"/>
              </a:rPr>
              <a:t>skip ending_balan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41E35-5957-4BBD-9E1C-B8695E8963A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L ending balance comput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228600" y="1136520"/>
            <a:ext cx="8534520" cy="556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6454C-7D00-4510-80B8-A56B5C62329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L ending balance tes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Added 2 more variabl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or each accoun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t amount for ending-balance entry with ‘C’ (credit) cod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t amount for ending-balance entry with ‘D’ (debit) cod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hange equation to tes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um (credits which are not ending-balance -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debits which are not ending-balance +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credit which is ending-balance –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debit which is not ending-balance) &lt; 1.00</a:t>
            </a: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ABC62-501D-4261-800C-D8F1B76569B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4T20:38:47Z</dcterms:created>
  <dc:creator>Dan A</dc:creator>
  <dc:description/>
  <dc:language>en-US</dc:language>
  <cp:lastModifiedBy>Herm Fischer</cp:lastModifiedBy>
  <cp:lastPrinted>2002-02-20T16:15:59Z</cp:lastPrinted>
  <dcterms:modified xsi:type="dcterms:W3CDTF">2007-10-01T02:04:19Z</dcterms:modified>
  <cp:revision>198</cp:revision>
  <dc:subject/>
  <dc:title>Materials preparation</dc:title>
</cp:coreProperties>
</file>