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2F20-EC60-4CBD-921F-B77300854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DA8B-BBB0-467A-9DE7-FAE348DF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FF86-8C6F-4B3F-B99A-1261F3466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8AA6-DAF9-4717-A1FC-8768D8BEC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5302-43FE-4DE1-B032-58E9BD38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0BE5-1319-4D67-8DFF-D33FDD39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F4B5-6035-4010-B5FE-44C82699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CDED-85D3-48DB-BD68-2D6A8C80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D07A-7B84-4624-8C33-FC625F71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416C-73F7-48F1-9E6B-112816D7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5BDF-B521-441D-A76E-FD67A8FB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BCC3-7B42-43B7-90E0-70CC3733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152C-6C7D-4A2F-8DF2-56A319215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mension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47048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ggregation of each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&amp; region dimensions have member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633840" cy="369900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927600"/>
            <a:ext cx="5354640" cy="23968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rmaceut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356000" cy="440712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77840" y="1652760"/>
            <a:ext cx="393696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eriods for used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dimensions per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Charlie’s aggregation exampl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dimensions to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require checking of aggregation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shown for product dimen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gion is duplicated except for dimension n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s mixed explicit/implicit dimension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gregation consist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914400" y="1192320"/>
          <a:ext cx="7620120" cy="55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92320"/>
                    <a:ext cx="7620120" cy="55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1:41:00Z</dcterms:created>
  <dc:creator>Herm Fischer</dc:creator>
  <dc:description/>
  <dc:language>en-US</dc:language>
  <cp:lastModifiedBy>Herm Fischer</cp:lastModifiedBy>
  <dcterms:modified xsi:type="dcterms:W3CDTF">2008-01-31T17:52:31Z</dcterms:modified>
  <cp:revision>2</cp:revision>
  <dc:subject/>
  <dc:title>Dimension aggregation</dc:title>
</cp:coreProperties>
</file>