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EEDA-7048-4AC6-8FD6-5F783BA31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3EA3-01F0-4D09-B621-034729A5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6806-E1FA-4774-807E-DBB5D6FE5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6751-837C-43CD-8500-4311DC6DA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53EF-B634-4035-A520-20820E28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0EAB-E649-40F1-9EDE-DAC6FE08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B190-8813-4B9C-BB8B-0F808697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9943-E96E-4306-8FA6-0438B5DE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7A86-C21E-4D4C-8A6C-D09242A4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B89A-1506-45F5-9AA4-C1286F5E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7B54-4F9E-485E-AE3D-56AEE587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C5DC-C452-4AAB-B0BF-D2C87DF3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6CE5-59B8-41CA-B612-13C3AF49D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mension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47048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ggregation of each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&amp; region dimensions have member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633840" cy="369900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5354640" cy="23968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rmaceut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356000" cy="440712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77840" y="1652760"/>
            <a:ext cx="393696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eriods for used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dimensions per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Charlie’s aggregation exampl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dimensions to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require checking of aggregation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shown for product dimen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gion is same except for dimension n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s mixed explicit/implicit dimension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 dimension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38188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1:41:00Z</dcterms:created>
  <dc:creator>Herm Fischer</dc:creator>
  <dc:description/>
  <dc:language>en-US</dc:language>
  <cp:lastModifiedBy>Herm Fischer</cp:lastModifiedBy>
  <dcterms:modified xsi:type="dcterms:W3CDTF">2007-10-01T01:42:19Z</dcterms:modified>
  <cp:revision>1</cp:revision>
  <dc:subject/>
  <dc:title>Dimension aggregation</dc:title>
</cp:coreProperties>
</file>