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3963-F324-4398-A5A6-15F39AC78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1AE5-C80B-4088-B12E-485406AE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33CD-56D9-4B7B-ACA7-45A92646F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32E1-13B1-4EB3-A3EC-A9306C7DE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836D-6365-4648-89C3-6318A4C7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AE59-28C5-4644-AAAA-AFFA9C35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136C-965A-470A-81CF-C2A384F1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65A2-019D-4263-AFD9-07179133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0954-8019-4872-B9B8-9DF5253D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64E1-394C-4C8A-8A20-91A627E7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6CFF-6149-4B51-AE28-1BEBCDB0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0386-E4A2-48FC-9BD0-EFC93B8D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9AD0-1EAA-4702-BCEE-69994485F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470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ggregation of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&amp; region dimensions have membe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33840" cy="3699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5354640" cy="2396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rmaceu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356000" cy="44071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7840" y="1652760"/>
            <a:ext cx="3936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iods for use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mensions per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harlie’s aggregation examp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dimensions to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equire checking of aggregat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shown for product dimen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ion is same except for dimension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mixed explicit/implicit dimens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dimension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1:41:00Z</dcterms:created>
  <dc:creator>Herm Fischer</dc:creator>
  <dc:description/>
  <dc:language>en-US</dc:language>
  <cp:lastModifiedBy>Herm Fischer</cp:lastModifiedBy>
  <dcterms:modified xsi:type="dcterms:W3CDTF">2007-10-01T01:42:19Z</dcterms:modified>
  <cp:revision>1</cp:revision>
  <dc:subject/>
  <dc:title>Dimension aggregation</dc:title>
</cp:coreProperties>
</file>