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19600" y="94089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DED-E732-40A8-87D9-8E9F69BD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’s compare what the typical e-business standard has to do, compared to XBR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left is a typical standard ‘invoice’ – this has been done many, many, many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 the right is the kind of thing we need to do in XBR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variability of what might go in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rms are common, but the meanings are diffe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metimes the meanings are the same but the terms are differ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4640" y="4704840"/>
            <a:ext cx="5394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mess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BRL is a domain-specific payload standard that complements other open stand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oes not particularly overlap the scope of other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s domain of discourse demands extensibility and therefore it doesn’t look like other sch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are attempting to avoid the reinvention of 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 payload standard, the adoption hurdle for XBRL is way lower than for a process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82058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800" y="5348880"/>
            <a:ext cx="82058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98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6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4320" y="421956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421956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800" y="534888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4320" y="534888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534888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9800" y="4219560"/>
            <a:ext cx="82058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82058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71240" y="907920"/>
            <a:ext cx="8204040" cy="14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8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9800" y="4219560"/>
            <a:ext cx="82058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800" y="5348880"/>
            <a:ext cx="82058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82058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800" y="5348880"/>
            <a:ext cx="82058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8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4320" y="421956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421956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800" y="534888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4320" y="534888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5348880"/>
            <a:ext cx="26420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82058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71240" y="907920"/>
            <a:ext cx="8204040" cy="14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98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600" y="534888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98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600" y="4219560"/>
            <a:ext cx="400428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800" y="5348880"/>
            <a:ext cx="8205840" cy="10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524640"/>
            <a:ext cx="808812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Lucida Conso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| </a:t>
            </a:r>
            <a:fld id="{0A0F59FD-BE61-46F5-8960-2D4D120672C5}" type="slidenum"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&lt;date/time&gt;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 |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40720" y="181080"/>
            <a:ext cx="1328760" cy="65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68360" y="6597360"/>
            <a:ext cx="81360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Lucida Conso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| </a:t>
            </a:r>
            <a:fld id="{E8D5A7D0-9A4B-4598-87B3-35CCB8A2A39E}" type="slidenum"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&lt;number&gt;</a:t>
            </a:fld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&lt;date/time&gt;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Lucida Console"/>
              </a:rPr>
              <a:t> |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4149720"/>
            <a:ext cx="578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3280" y="3176640"/>
          <a:ext cx="4032360" cy="18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3176640"/>
                    <a:ext cx="403236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Lucida Sans Unicode"/>
              </a:rPr>
              <a:t>XBRL for the 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Lucida Sans Unicode"/>
              </a:rPr>
              <a:t>XML-Savvy</a:t>
            </a:r>
            <a:endParaRPr b="1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800" y="4219560"/>
            <a:ext cx="82058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Walter Hamsch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Lucida Sans Unicode"/>
              </a:rPr>
              <a:t>walter@hamscher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Chair, Steering Committee, XBRL Internation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Consultant to PricewaterhouseCoop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XML Linking and XBRL Linkbase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The Point of XLink (W3C XML Linkin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Reasons for using XLink in XBR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XBRL Linkbases as Tab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The Purpose of each XBRL Linkba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ML Linking (XLink)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XLink is a W3C standard way to use XML to represent all kinds of relationships between XML elements no matter where they ar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"/>
          <p:cNvSpPr/>
          <p:nvPr/>
        </p:nvSpPr>
        <p:spPr>
          <a:xfrm>
            <a:off x="784080" y="3141720"/>
            <a:ext cx="2325960" cy="3095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Docu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99400" y="3141720"/>
            <a:ext cx="1927080" cy="3095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ML Docu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8200" y="3068640"/>
            <a:ext cx="3124440" cy="32400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40320" y="4080600"/>
            <a:ext cx="12549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 id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0960" y="5233320"/>
            <a:ext cx="126864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 id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55080" y="3864600"/>
            <a:ext cx="12549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P id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695680" y="4049640"/>
            <a:ext cx="4601520" cy="2116080"/>
            <a:chOff x="2695680" y="4049640"/>
            <a:chExt cx="4601520" cy="2116080"/>
          </a:xfrm>
        </p:grpSpPr>
        <p:sp>
          <p:nvSpPr>
            <p:cNvPr id="203" name=""/>
            <p:cNvSpPr/>
            <p:nvPr/>
          </p:nvSpPr>
          <p:spPr>
            <a:xfrm>
              <a:off x="4970880" y="4797360"/>
              <a:ext cx="1461960" cy="13683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s the same a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4" name=""/>
            <p:cNvCxnSpPr>
              <a:stCxn id="201" idx="1"/>
              <a:endCxn id="203" idx="5"/>
            </p:cNvCxnSpPr>
            <p:nvPr/>
          </p:nvCxnSpPr>
          <p:spPr>
            <a:xfrm flipV="1" rot="10800000">
              <a:off x="6432480" y="4049640"/>
              <a:ext cx="864720" cy="1271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200" idx="3"/>
              <a:endCxn id="203" idx="1"/>
            </p:cNvCxnSpPr>
            <p:nvPr/>
          </p:nvCxnSpPr>
          <p:spPr>
            <a:xfrm flipV="1">
              <a:off x="2695680" y="5320440"/>
              <a:ext cx="2275920" cy="975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2104920" y="3429000"/>
            <a:ext cx="3065040" cy="1800360"/>
            <a:chOff x="2104920" y="3429000"/>
            <a:chExt cx="3065040" cy="1800360"/>
          </a:xfrm>
        </p:grpSpPr>
        <p:sp>
          <p:nvSpPr>
            <p:cNvPr id="207" name=""/>
            <p:cNvSpPr/>
            <p:nvPr/>
          </p:nvSpPr>
          <p:spPr>
            <a:xfrm>
              <a:off x="3708000" y="3429000"/>
              <a:ext cx="1461960" cy="136836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xplain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>
              <a:stCxn id="199" idx="3"/>
              <a:endCxn id="207" idx="1"/>
            </p:cNvCxnSpPr>
            <p:nvPr/>
          </p:nvCxnSpPr>
          <p:spPr>
            <a:xfrm flipV="1">
              <a:off x="2153160" y="3952080"/>
              <a:ext cx="1555200" cy="313560"/>
            </a:xfrm>
            <a:prstGeom prst="curvedConnector5">
              <a:avLst>
                <a:gd name="adj1" fmla="val 49942"/>
                <a:gd name="adj2" fmla="val 50000"/>
                <a:gd name="adj3" fmla="val 499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9" name=""/>
            <p:cNvCxnSpPr>
              <a:stCxn id="200" idx="0"/>
              <a:endCxn id="207" idx="2"/>
            </p:cNvCxnSpPr>
            <p:nvPr/>
          </p:nvCxnSpPr>
          <p:spPr>
            <a:xfrm flipH="1" flipV="1" rot="5400000">
              <a:off x="2832120" y="4069440"/>
              <a:ext cx="432720" cy="1887840"/>
            </a:xfrm>
            <a:prstGeom prst="curvedConnector5">
              <a:avLst>
                <a:gd name="adj1" fmla="val 49958"/>
                <a:gd name="adj2" fmla="val 49990"/>
                <a:gd name="adj3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wipe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52360" y="1268280"/>
            <a:ext cx="8638920" cy="5185080"/>
            <a:chOff x="252360" y="1268280"/>
            <a:chExt cx="8638920" cy="5185080"/>
          </a:xfrm>
        </p:grpSpPr>
        <p:sp>
          <p:nvSpPr>
            <p:cNvPr id="211" name=""/>
            <p:cNvSpPr/>
            <p:nvPr/>
          </p:nvSpPr>
          <p:spPr>
            <a:xfrm>
              <a:off x="5369040" y="4508640"/>
              <a:ext cx="1529640" cy="19447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9040" y="1268280"/>
              <a:ext cx="3522240" cy="28814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2360" y="3789360"/>
              <a:ext cx="1727640" cy="266400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2360" y="1268280"/>
              <a:ext cx="1793520" cy="19447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45320" y="1268280"/>
              <a:ext cx="2924640" cy="51850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XBRL uses XLink to represent the relationships between concept elements</a:t>
            </a:r>
            <a:endParaRPr b="1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"/>
          <p:cNvSpPr/>
          <p:nvPr/>
        </p:nvSpPr>
        <p:spPr>
          <a:xfrm>
            <a:off x="2554560" y="3145680"/>
            <a:ext cx="25110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element id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t.in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17680" y="1488240"/>
            <a:ext cx="4572000" cy="1653120"/>
            <a:chOff x="517680" y="1488240"/>
            <a:chExt cx="4572000" cy="1653120"/>
          </a:xfrm>
        </p:grpSpPr>
        <p:sp>
          <p:nvSpPr>
            <p:cNvPr id="219" name=""/>
            <p:cNvSpPr/>
            <p:nvPr/>
          </p:nvSpPr>
          <p:spPr>
            <a:xfrm>
              <a:off x="2554200" y="1488240"/>
              <a:ext cx="253548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element id=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t.cu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”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7680" y="1700280"/>
              <a:ext cx="1262880" cy="12286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fini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17" idx="0"/>
              <a:endCxn id="220" idx="5"/>
            </p:cNvCxnSpPr>
            <p:nvPr/>
          </p:nvCxnSpPr>
          <p:spPr>
            <a:xfrm flipV="1" rot="16200000">
              <a:off x="2308680" y="1640520"/>
              <a:ext cx="972360" cy="2030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20" idx="0"/>
              <a:endCxn id="219" idx="1"/>
            </p:cNvCxnSpPr>
            <p:nvPr/>
          </p:nvCxnSpPr>
          <p:spPr>
            <a:xfrm flipH="1" flipV="1" rot="5400000">
              <a:off x="1883160" y="938160"/>
              <a:ext cx="27720" cy="14968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3" name=""/>
          <p:cNvGrpSpPr/>
          <p:nvPr/>
        </p:nvGrpSpPr>
        <p:grpSpPr>
          <a:xfrm>
            <a:off x="4998960" y="1416960"/>
            <a:ext cx="3904560" cy="1150200"/>
            <a:chOff x="4998960" y="1416960"/>
            <a:chExt cx="3904560" cy="1150200"/>
          </a:xfrm>
        </p:grpSpPr>
        <p:sp>
          <p:nvSpPr>
            <p:cNvPr id="224" name=""/>
            <p:cNvSpPr/>
            <p:nvPr/>
          </p:nvSpPr>
          <p:spPr>
            <a:xfrm>
              <a:off x="5374800" y="1416960"/>
              <a:ext cx="352872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Label&g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rrent Asset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/Label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4320" y="1916280"/>
              <a:ext cx="908280" cy="6508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"/>
            <p:cNvCxnSpPr>
              <a:stCxn id="219" idx="3"/>
              <a:endCxn id="225" idx="1"/>
            </p:cNvCxnSpPr>
            <p:nvPr/>
          </p:nvCxnSpPr>
          <p:spPr>
            <a:xfrm>
              <a:off x="4998960" y="1672920"/>
              <a:ext cx="1036080" cy="492840"/>
            </a:xfrm>
            <a:prstGeom prst="curvedConnector5">
              <a:avLst>
                <a:gd name="adj1" fmla="val 49913"/>
                <a:gd name="adj2" fmla="val 50000"/>
                <a:gd name="adj3" fmla="val 4991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25" idx="5"/>
              <a:endCxn id="224" idx="2"/>
            </p:cNvCxnSpPr>
            <p:nvPr/>
          </p:nvCxnSpPr>
          <p:spPr>
            <a:xfrm flipV="1">
              <a:off x="6942240" y="1788480"/>
              <a:ext cx="196920" cy="376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28" name=""/>
          <p:cNvGrpSpPr/>
          <p:nvPr/>
        </p:nvGrpSpPr>
        <p:grpSpPr>
          <a:xfrm>
            <a:off x="4975200" y="2637000"/>
            <a:ext cx="3409560" cy="1308600"/>
            <a:chOff x="4975200" y="2637000"/>
            <a:chExt cx="3409560" cy="1308600"/>
          </a:xfrm>
        </p:grpSpPr>
        <p:sp>
          <p:nvSpPr>
            <p:cNvPr id="229" name=""/>
            <p:cNvSpPr/>
            <p:nvPr/>
          </p:nvSpPr>
          <p:spPr>
            <a:xfrm>
              <a:off x="5462280" y="3577320"/>
              <a:ext cx="292248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Label&gt;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nto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/Label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98720" y="2637000"/>
              <a:ext cx="908280" cy="6508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"/>
            <p:cNvCxnSpPr>
              <a:stCxn id="230" idx="5"/>
              <a:endCxn id="229" idx="0"/>
            </p:cNvCxnSpPr>
            <p:nvPr/>
          </p:nvCxnSpPr>
          <p:spPr>
            <a:xfrm flipH="1">
              <a:off x="6923160" y="2885760"/>
              <a:ext cx="483840" cy="687960"/>
            </a:xfrm>
            <a:prstGeom prst="curvedConnector5">
              <a:avLst>
                <a:gd name="adj1" fmla="val -43633"/>
                <a:gd name="adj2" fmla="val 39581"/>
                <a:gd name="adj3" fmla="val -436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17" idx="3"/>
              <a:endCxn id="230" idx="1"/>
            </p:cNvCxnSpPr>
            <p:nvPr/>
          </p:nvCxnSpPr>
          <p:spPr>
            <a:xfrm flipV="1">
              <a:off x="4975200" y="2885400"/>
              <a:ext cx="1524240" cy="44532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3" name=""/>
          <p:cNvGrpSpPr/>
          <p:nvPr/>
        </p:nvGrpSpPr>
        <p:grpSpPr>
          <a:xfrm>
            <a:off x="3808800" y="3517560"/>
            <a:ext cx="5098320" cy="2889360"/>
            <a:chOff x="3808800" y="3517560"/>
            <a:chExt cx="5098320" cy="2889360"/>
          </a:xfrm>
        </p:grpSpPr>
        <p:sp>
          <p:nvSpPr>
            <p:cNvPr id="234" name=""/>
            <p:cNvSpPr/>
            <p:nvPr/>
          </p:nvSpPr>
          <p:spPr>
            <a:xfrm>
              <a:off x="7163640" y="5096160"/>
              <a:ext cx="1743480" cy="131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P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formal explanation of Inventory in the Accounting Literatur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/P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4941720"/>
              <a:ext cx="1196640" cy="9352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fer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"/>
            <p:cNvCxnSpPr>
              <a:stCxn id="217" idx="2"/>
              <a:endCxn id="235" idx="0"/>
            </p:cNvCxnSpPr>
            <p:nvPr/>
          </p:nvCxnSpPr>
          <p:spPr>
            <a:xfrm flipH="1" rot="16200000">
              <a:off x="4242600" y="3083760"/>
              <a:ext cx="1424520" cy="2292120"/>
            </a:xfrm>
            <a:prstGeom prst="curvedConnector5">
              <a:avLst>
                <a:gd name="adj1" fmla="val 49924"/>
                <a:gd name="adj2" fmla="val 50000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5" idx="5"/>
              <a:endCxn id="234" idx="1"/>
            </p:cNvCxnSpPr>
            <p:nvPr/>
          </p:nvCxnSpPr>
          <p:spPr>
            <a:xfrm>
              <a:off x="6699240" y="5299200"/>
              <a:ext cx="465120" cy="452880"/>
            </a:xfrm>
            <a:prstGeom prst="curvedConnector5">
              <a:avLst>
                <a:gd name="adj1" fmla="val 49806"/>
                <a:gd name="adj2" fmla="val 49960"/>
                <a:gd name="adj3" fmla="val 498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38" name=""/>
          <p:cNvGrpSpPr/>
          <p:nvPr/>
        </p:nvGrpSpPr>
        <p:grpSpPr>
          <a:xfrm>
            <a:off x="317520" y="3329640"/>
            <a:ext cx="4809240" cy="2416320"/>
            <a:chOff x="317520" y="3329640"/>
            <a:chExt cx="4809240" cy="2416320"/>
          </a:xfrm>
        </p:grpSpPr>
        <p:sp>
          <p:nvSpPr>
            <p:cNvPr id="239" name=""/>
            <p:cNvSpPr/>
            <p:nvPr/>
          </p:nvSpPr>
          <p:spPr>
            <a:xfrm>
              <a:off x="317520" y="4221000"/>
              <a:ext cx="1530000" cy="122904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sent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13080" y="5377680"/>
              <a:ext cx="271368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&lt;element id=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t.fix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”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>
              <a:stCxn id="239" idx="5"/>
              <a:endCxn id="240" idx="0"/>
            </p:cNvCxnSpPr>
            <p:nvPr/>
          </p:nvCxnSpPr>
          <p:spPr>
            <a:xfrm>
              <a:off x="1847520" y="4691160"/>
              <a:ext cx="1923120" cy="682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7" idx="1"/>
              <a:endCxn id="239" idx="0"/>
            </p:cNvCxnSpPr>
            <p:nvPr/>
          </p:nvCxnSpPr>
          <p:spPr>
            <a:xfrm flipV="1" rot="10800000">
              <a:off x="1081800" y="3329640"/>
              <a:ext cx="1562760" cy="89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wipe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369040" y="4508640"/>
            <a:ext cx="1530360" cy="19447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9040" y="1268280"/>
            <a:ext cx="3522600" cy="2881440"/>
          </a:xfrm>
          <a:prstGeom prst="foldedCorner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2360" y="3789360"/>
            <a:ext cx="1727280" cy="26640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2360" y="1268280"/>
            <a:ext cx="1793880" cy="19447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44600" y="1268280"/>
            <a:ext cx="2925720" cy="51850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XLink allows customization and explicit, modular changes to reusable material</a:t>
            </a:r>
            <a:endParaRPr b="1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"/>
          <p:cNvSpPr/>
          <p:nvPr/>
        </p:nvSpPr>
        <p:spPr>
          <a:xfrm>
            <a:off x="2554560" y="3145680"/>
            <a:ext cx="25110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lement id=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.in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17680" y="1488240"/>
            <a:ext cx="4572360" cy="1653120"/>
            <a:chOff x="517680" y="1488240"/>
            <a:chExt cx="4572360" cy="1653120"/>
          </a:xfrm>
        </p:grpSpPr>
        <p:sp>
          <p:nvSpPr>
            <p:cNvPr id="251" name=""/>
            <p:cNvSpPr/>
            <p:nvPr/>
          </p:nvSpPr>
          <p:spPr>
            <a:xfrm>
              <a:off x="2554560" y="1488240"/>
              <a:ext cx="253548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element id=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t.cu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7680" y="1700280"/>
              <a:ext cx="1263240" cy="12286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fini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"/>
            <p:cNvCxnSpPr>
              <a:stCxn id="249" idx="0"/>
              <a:endCxn id="252" idx="5"/>
            </p:cNvCxnSpPr>
            <p:nvPr/>
          </p:nvCxnSpPr>
          <p:spPr>
            <a:xfrm flipV="1" rot="16200000">
              <a:off x="2309400" y="1640160"/>
              <a:ext cx="972360" cy="2030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52" idx="0"/>
              <a:endCxn id="251" idx="1"/>
            </p:cNvCxnSpPr>
            <p:nvPr/>
          </p:nvCxnSpPr>
          <p:spPr>
            <a:xfrm flipH="1" flipV="1" rot="5400000">
              <a:off x="1883520" y="937800"/>
              <a:ext cx="27720" cy="14972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55" name=""/>
          <p:cNvSpPr/>
          <p:nvPr/>
        </p:nvSpPr>
        <p:spPr>
          <a:xfrm>
            <a:off x="6033960" y="1916280"/>
            <a:ext cx="909720" cy="65088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/>
          <p:nvPr/>
        </p:nvCxnSpPr>
        <p:spPr>
          <a:xfrm>
            <a:off x="4978440" y="1672920"/>
            <a:ext cx="1122840" cy="492840"/>
          </a:xfrm>
          <a:prstGeom prst="curvedConnector5">
            <a:avLst>
              <a:gd name="adj1" fmla="val 49935"/>
              <a:gd name="adj2" fmla="val 50000"/>
              <a:gd name="adj3" fmla="val 499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5" idx="5"/>
            <a:endCxn id="258" idx="2"/>
          </p:cNvCxnSpPr>
          <p:nvPr/>
        </p:nvCxnSpPr>
        <p:spPr>
          <a:xfrm flipV="1">
            <a:off x="6943320" y="1733040"/>
            <a:ext cx="144720" cy="43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6499080" y="2637000"/>
            <a:ext cx="908280" cy="65088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9" idx="5"/>
            <a:endCxn id="261" idx="0"/>
          </p:cNvCxnSpPr>
          <p:nvPr/>
        </p:nvCxnSpPr>
        <p:spPr>
          <a:xfrm flipH="1">
            <a:off x="7068600" y="2885760"/>
            <a:ext cx="339120" cy="716760"/>
          </a:xfrm>
          <a:prstGeom prst="curvedConnector5">
            <a:avLst>
              <a:gd name="adj1" fmla="val -67587"/>
              <a:gd name="adj2" fmla="val 38994"/>
              <a:gd name="adj3" fmla="val -67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/>
          <p:nvPr/>
        </p:nvCxnSpPr>
        <p:spPr>
          <a:xfrm flipV="1">
            <a:off x="4952880" y="2885400"/>
            <a:ext cx="1651680" cy="44532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3" name=""/>
          <p:cNvGrpSpPr/>
          <p:nvPr/>
        </p:nvGrpSpPr>
        <p:grpSpPr>
          <a:xfrm>
            <a:off x="3808800" y="3517560"/>
            <a:ext cx="5098320" cy="2889360"/>
            <a:chOff x="3808800" y="3517560"/>
            <a:chExt cx="5098320" cy="2889360"/>
          </a:xfrm>
        </p:grpSpPr>
        <p:sp>
          <p:nvSpPr>
            <p:cNvPr id="264" name=""/>
            <p:cNvSpPr/>
            <p:nvPr/>
          </p:nvSpPr>
          <p:spPr>
            <a:xfrm>
              <a:off x="7163640" y="5096160"/>
              <a:ext cx="1743480" cy="131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P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ormal explanation of Inventory in the Accounting Literatur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/P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2240" y="4941720"/>
              <a:ext cx="1196640" cy="93528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fer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49" idx="2"/>
              <a:endCxn id="265" idx="0"/>
            </p:cNvCxnSpPr>
            <p:nvPr/>
          </p:nvCxnSpPr>
          <p:spPr>
            <a:xfrm flipH="1" rot="16200000">
              <a:off x="4242600" y="3083760"/>
              <a:ext cx="1424520" cy="2292120"/>
            </a:xfrm>
            <a:prstGeom prst="curvedConnector5">
              <a:avLst>
                <a:gd name="adj1" fmla="val 49924"/>
                <a:gd name="adj2" fmla="val 50000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5" idx="5"/>
              <a:endCxn id="264" idx="1"/>
            </p:cNvCxnSpPr>
            <p:nvPr/>
          </p:nvCxnSpPr>
          <p:spPr>
            <a:xfrm>
              <a:off x="6699240" y="5299200"/>
              <a:ext cx="465120" cy="452880"/>
            </a:xfrm>
            <a:prstGeom prst="curvedConnector5">
              <a:avLst>
                <a:gd name="adj1" fmla="val 49806"/>
                <a:gd name="adj2" fmla="val 49960"/>
                <a:gd name="adj3" fmla="val 4980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8" name=""/>
          <p:cNvGrpSpPr/>
          <p:nvPr/>
        </p:nvGrpSpPr>
        <p:grpSpPr>
          <a:xfrm>
            <a:off x="317520" y="3329640"/>
            <a:ext cx="4809600" cy="2416320"/>
            <a:chOff x="317520" y="3329640"/>
            <a:chExt cx="4809600" cy="2416320"/>
          </a:xfrm>
        </p:grpSpPr>
        <p:sp>
          <p:nvSpPr>
            <p:cNvPr id="269" name=""/>
            <p:cNvSpPr/>
            <p:nvPr/>
          </p:nvSpPr>
          <p:spPr>
            <a:xfrm>
              <a:off x="317520" y="4221000"/>
              <a:ext cx="1530360" cy="122904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sentat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13440" y="5377680"/>
              <a:ext cx="2713680" cy="368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element id=“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t.fixe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”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69" idx="5"/>
              <a:endCxn id="270" idx="0"/>
            </p:cNvCxnSpPr>
            <p:nvPr/>
          </p:nvCxnSpPr>
          <p:spPr>
            <a:xfrm>
              <a:off x="1847520" y="4691160"/>
              <a:ext cx="1923480" cy="682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49" idx="1"/>
              <a:endCxn id="269" idx="0"/>
            </p:cNvCxnSpPr>
            <p:nvPr/>
          </p:nvCxnSpPr>
          <p:spPr>
            <a:xfrm flipV="1" rot="10800000">
              <a:off x="1081800" y="3329640"/>
              <a:ext cx="1563120" cy="891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3" name=""/>
          <p:cNvGrpSpPr/>
          <p:nvPr/>
        </p:nvGrpSpPr>
        <p:grpSpPr>
          <a:xfrm>
            <a:off x="5486400" y="3606480"/>
            <a:ext cx="3165480" cy="337320"/>
            <a:chOff x="5486400" y="3606480"/>
            <a:chExt cx="3165480" cy="337320"/>
          </a:xfrm>
        </p:grpSpPr>
        <p:sp>
          <p:nvSpPr>
            <p:cNvPr id="261" name=""/>
            <p:cNvSpPr/>
            <p:nvPr/>
          </p:nvSpPr>
          <p:spPr>
            <a:xfrm>
              <a:off x="5486400" y="3606480"/>
              <a:ext cx="31654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Label&gt;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/Label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6330240" y="3618000"/>
              <a:ext cx="1349280" cy="3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5556240" y="1391760"/>
            <a:ext cx="3062160" cy="337320"/>
            <a:chOff x="5556240" y="1391760"/>
            <a:chExt cx="3062160" cy="337320"/>
          </a:xfrm>
        </p:grpSpPr>
        <p:sp>
          <p:nvSpPr>
            <p:cNvPr id="258" name=""/>
            <p:cNvSpPr/>
            <p:nvPr/>
          </p:nvSpPr>
          <p:spPr>
            <a:xfrm>
              <a:off x="5556240" y="1391760"/>
              <a:ext cx="30621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Label&gt;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lt;/Label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6" name=""/>
            <p:cNvGraphicFramePr/>
            <p:nvPr/>
          </p:nvGraphicFramePr>
          <p:xfrm>
            <a:off x="6540840" y="1414440"/>
            <a:ext cx="1028880" cy="291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540840" y="1414440"/>
                      <a:ext cx="102888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XBRL Linkbases: Surface Syntax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inkbase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mlns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“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…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abelLink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typ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extended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oc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typ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locator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label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cnv_RevaluoPropi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href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1" lang="en-GB" sz="1600" spc="-1" strike="noStrike">
                <a:solidFill>
                  <a:srgbClr val="000000"/>
                </a:solidFill>
                <a:latin typeface="Lucida Sans Unicode"/>
              </a:rPr>
              <a:t>cnv-02-0901.xsd#RevaluoPropio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tit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cnv_RevaluoPropi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    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abel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typ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resourc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label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_d8ddda160e9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tit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cnv_RevaluoPropi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ro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http://www.xbrl.org/linkprops/label/standard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ml:lang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“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sp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&gt;</a:t>
            </a:r>
            <a:r>
              <a:rPr b="1" lang="en-GB" sz="1600" spc="-1" strike="noStrike">
                <a:solidFill>
                  <a:srgbClr val="000000"/>
                </a:solidFill>
                <a:latin typeface="Lucida Sans Unicode"/>
              </a:rPr>
              <a:t>Revaluo Propi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/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abel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    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abelArc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typ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arc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show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embed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from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cnv_RevaluoPropio 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t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_d8ddda160e9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actuat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onRequest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tit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Go up to: RevaluoPropio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arcro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http://www.xbrl.org/linkprops/arc/element-label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&lt;</a:t>
            </a:r>
            <a:r>
              <a:rPr b="0" lang="en-GB" sz="1600" spc="-1" strike="noStrike">
                <a:solidFill>
                  <a:srgbClr val="800000"/>
                </a:solidFill>
                <a:latin typeface="Lucida Sans Unicode"/>
              </a:rPr>
              <a:t>labelArc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typ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arc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show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replac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from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_d8ddda160e9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t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cnv_RevaluoPropio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xlink:actuat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onRequest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tit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Go down to: cnv_RevaluoPropio__d8ddda160e9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      </a:t>
            </a:r>
            <a:r>
              <a:rPr b="0" lang="en-GB" sz="1600" spc="-1" strike="noStrike">
                <a:solidFill>
                  <a:srgbClr val="ff0000"/>
                </a:solidFill>
                <a:latin typeface="Lucida Sans Unicode"/>
              </a:rPr>
              <a:t>xlink:arcrole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="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http://www.xbrl.org/linkprops/arc/label-element</a:t>
            </a:r>
            <a:r>
              <a:rPr b="0" lang="en-GB" sz="1600" spc="-1" strike="noStrike">
                <a:solidFill>
                  <a:srgbClr val="0000ff"/>
                </a:solidFill>
                <a:latin typeface="Lucida Sans Unicode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38080" y="2590920"/>
            <a:ext cx="73915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2" idx="1"/>
            <a:endCxn id="283" idx="0"/>
          </p:cNvCxnSpPr>
          <p:nvPr/>
        </p:nvCxnSpPr>
        <p:spPr>
          <a:xfrm flipV="1" rot="10800000">
            <a:off x="3351960" y="3275640"/>
            <a:ext cx="38196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4" name=""/>
          <p:cNvCxnSpPr>
            <a:stCxn id="283" idx="2"/>
            <a:endCxn id="285" idx="1"/>
          </p:cNvCxnSpPr>
          <p:nvPr/>
        </p:nvCxnSpPr>
        <p:spPr>
          <a:xfrm flipH="1" rot="16200000">
            <a:off x="3637440" y="4971600"/>
            <a:ext cx="648360" cy="1220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4800600" y="1407600"/>
            <a:ext cx="3352680" cy="91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a: cnv-02-0901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: RevaluoPr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#RevaluoPr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82" idx="0"/>
            <a:endCxn id="286" idx="2"/>
          </p:cNvCxnSpPr>
          <p:nvPr/>
        </p:nvCxnSpPr>
        <p:spPr>
          <a:xfrm flipH="1" flipV="1" rot="5400000">
            <a:off x="5964840" y="2306880"/>
            <a:ext cx="491400" cy="534240"/>
          </a:xfrm>
          <a:prstGeom prst="curvedConnector5">
            <a:avLst>
              <a:gd name="adj1" fmla="val 49780"/>
              <a:gd name="adj2" fmla="val 49966"/>
              <a:gd name="adj3" fmla="val 49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8" name=""/>
          <p:cNvGrpSpPr/>
          <p:nvPr/>
        </p:nvGrpSpPr>
        <p:grpSpPr>
          <a:xfrm>
            <a:off x="3733920" y="2819520"/>
            <a:ext cx="4435920" cy="914400"/>
            <a:chOff x="3733920" y="2819520"/>
            <a:chExt cx="4435920" cy="914400"/>
          </a:xfrm>
        </p:grpSpPr>
        <p:sp>
          <p:nvSpPr>
            <p:cNvPr id="282" name=""/>
            <p:cNvSpPr/>
            <p:nvPr/>
          </p:nvSpPr>
          <p:spPr>
            <a:xfrm>
              <a:off x="3733920" y="2819520"/>
              <a:ext cx="441936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:: lo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ref: cnv-02-0901.xsd#RevaluoProp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: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_d8ddda160e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0680" y="281952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cat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0" y="5410080"/>
            <a:ext cx="3581280" cy="990720"/>
            <a:chOff x="4572000" y="5410080"/>
            <a:chExt cx="3581280" cy="990720"/>
          </a:xfrm>
        </p:grpSpPr>
        <p:sp>
          <p:nvSpPr>
            <p:cNvPr id="285" name=""/>
            <p:cNvSpPr/>
            <p:nvPr/>
          </p:nvSpPr>
          <p:spPr>
            <a:xfrm>
              <a:off x="4572000" y="5410080"/>
              <a:ext cx="3581280" cy="99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:: l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: cnv_RevaluoProp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g: 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46120" y="541008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sour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914400" y="3962520"/>
            <a:ext cx="4906800" cy="1295280"/>
            <a:chOff x="914400" y="3962520"/>
            <a:chExt cx="4906800" cy="1295280"/>
          </a:xfrm>
        </p:grpSpPr>
        <p:sp>
          <p:nvSpPr>
            <p:cNvPr id="283" name=""/>
            <p:cNvSpPr/>
            <p:nvPr/>
          </p:nvSpPr>
          <p:spPr>
            <a:xfrm>
              <a:off x="914400" y="3962520"/>
              <a:ext cx="4876920" cy="129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: Label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tle: Go to label of ci:assets.currentAssets_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role: …/label-el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uate: onRequ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59600" y="39625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r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XBRL Linkbases as pure XLinks: The xlink:label attribute connects elements</a:t>
            </a:r>
            <a:endParaRPr b="1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XBRL Linkbases as Table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</a:rPr>
              <a:t>TABLE labelLink-Lo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0000"/>
                </a:solidFill>
                <a:uFillTx/>
                <a:latin typeface="Courier New"/>
              </a:rPr>
              <a:t>Label (PK)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 u="sng">
                <a:solidFill>
                  <a:srgbClr val="800000"/>
                </a:solidFill>
                <a:uFillTx/>
                <a:latin typeface="Courier New"/>
              </a:rPr>
              <a:t>href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nv_RevaluoPropio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nv-02-0901.xsd#RevaluoPropi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</a:rPr>
              <a:t>TABLE labelLink-Lab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0000"/>
                </a:solidFill>
                <a:uFillTx/>
                <a:latin typeface="Courier New"/>
              </a:rPr>
              <a:t>Label (key)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 u="sng">
                <a:solidFill>
                  <a:srgbClr val="800000"/>
                </a:solidFill>
                <a:uFillTx/>
                <a:latin typeface="Courier New"/>
              </a:rPr>
              <a:t>lang (key)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 u="sng">
                <a:solidFill>
                  <a:srgbClr val="800000"/>
                </a:solidFill>
                <a:uFillTx/>
                <a:latin typeface="Courier New"/>
              </a:rPr>
              <a:t>content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8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8ddda160e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valuo Propi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0ded1689b2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n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perty Revalua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Courier New"/>
              </a:rPr>
              <a:t>TABLE labelLink-LabelAr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From (key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To (key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arcrol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nv_RevaluoPropi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8ddda160e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ttp://www.xbrl.org/linkprops/arc/element-lab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8ddda160e9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cnv_RevaluoPropio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ttp://www.xbrl.org/linkprops/arc/label-element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The Purpose of Each Linkbase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o associate a concept with one or more presentation labels, one per languag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Referen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o associate a concept with one or more places in authoritative literature where it is define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ndicate for each concept whether it is a special case of some other defined concep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The Purpose of Each Linkbas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(cont.)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o indicate how one concept in a group of “sibling” concepts is related to the value of their parent concept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hild-parent &amp; parent-child ro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imension-element &amp; element-dimension ro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ndicate the order in which a concept should be presented when grouped with its sibling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Lucida Sans Unicode"/>
              </a:rPr>
              <a:t>But the real purpose is extensibility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55640" y="3733920"/>
            <a:ext cx="8159760" cy="17524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3520" y="1828800"/>
            <a:ext cx="2532240" cy="1828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dding a Concept in an Extension Taxonomy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"/>
          <p:cNvSpPr/>
          <p:nvPr/>
        </p:nvSpPr>
        <p:spPr>
          <a:xfrm>
            <a:off x="138600" y="5809680"/>
            <a:ext cx="309312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sOfIntellectual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64960" y="842040"/>
            <a:ext cx="1258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2840" y="1971000"/>
            <a:ext cx="1892520" cy="679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0"/>
            <a:endCxn id="305" idx="2"/>
          </p:cNvCxnSpPr>
          <p:nvPr/>
        </p:nvCxnSpPr>
        <p:spPr>
          <a:xfrm flipH="1" flipV="1" rot="5400000">
            <a:off x="1997640" y="384480"/>
            <a:ext cx="767520" cy="2426400"/>
          </a:xfrm>
          <a:prstGeom prst="curvedConnector5">
            <a:avLst>
              <a:gd name="adj1" fmla="val 49882"/>
              <a:gd name="adj2" fmla="val 49992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2660040" y="6347880"/>
            <a:ext cx="27792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sOfFinancial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8480" y="2733120"/>
            <a:ext cx="1892520" cy="679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0"/>
            <a:endCxn id="305" idx="2"/>
          </p:cNvCxnSpPr>
          <p:nvPr/>
        </p:nvCxnSpPr>
        <p:spPr>
          <a:xfrm flipH="1" flipV="1" rot="5400000">
            <a:off x="1994400" y="1143000"/>
            <a:ext cx="1529640" cy="1670760"/>
          </a:xfrm>
          <a:prstGeom prst="curvedConnector5">
            <a:avLst>
              <a:gd name="adj1" fmla="val 49929"/>
              <a:gd name="adj2" fmla="val 50000"/>
              <a:gd name="adj3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2216520" y="3866040"/>
            <a:ext cx="1829880" cy="958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40400" y="4180320"/>
            <a:ext cx="1829880" cy="958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8" idx="0"/>
            <a:endCxn id="312" idx="3"/>
          </p:cNvCxnSpPr>
          <p:nvPr/>
        </p:nvCxnSpPr>
        <p:spPr>
          <a:xfrm flipH="1" flipV="1" rot="5400000">
            <a:off x="3744360" y="5431680"/>
            <a:ext cx="1216800" cy="60732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4" idx="0"/>
            <a:endCxn id="311" idx="3"/>
          </p:cNvCxnSpPr>
          <p:nvPr/>
        </p:nvCxnSpPr>
        <p:spPr>
          <a:xfrm flipH="1" flipV="1" rot="5400000">
            <a:off x="1912320" y="4585680"/>
            <a:ext cx="992880" cy="1446840"/>
          </a:xfrm>
          <a:prstGeom prst="curvedConnector5">
            <a:avLst>
              <a:gd name="adj1" fmla="val 49909"/>
              <a:gd name="adj2" fmla="val 50000"/>
              <a:gd name="adj3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11" idx="0"/>
            <a:endCxn id="305" idx="2"/>
          </p:cNvCxnSpPr>
          <p:nvPr/>
        </p:nvCxnSpPr>
        <p:spPr>
          <a:xfrm flipH="1" flipV="1" rot="5400000">
            <a:off x="2031480" y="2314080"/>
            <a:ext cx="2663280" cy="462960"/>
          </a:xfrm>
          <a:prstGeom prst="curvedConnector5">
            <a:avLst>
              <a:gd name="adj1" fmla="val 49966"/>
              <a:gd name="adj2" fmla="val 49961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2" idx="0"/>
            <a:endCxn id="305" idx="2"/>
          </p:cNvCxnSpPr>
          <p:nvPr/>
        </p:nvCxnSpPr>
        <p:spPr>
          <a:xfrm flipV="1" rot="16200000">
            <a:off x="2636280" y="2170800"/>
            <a:ext cx="2977560" cy="1062720"/>
          </a:xfrm>
          <a:prstGeom prst="curvedConnector5">
            <a:avLst>
              <a:gd name="adj1" fmla="val 49963"/>
              <a:gd name="adj2" fmla="val 49983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4" idx="0"/>
            <a:endCxn id="306" idx="3"/>
          </p:cNvCxnSpPr>
          <p:nvPr/>
        </p:nvCxnSpPr>
        <p:spPr>
          <a:xfrm flipV="1" rot="16200000">
            <a:off x="-156240" y="3963240"/>
            <a:ext cx="3166200" cy="518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8" idx="0"/>
            <a:endCxn id="309" idx="3"/>
          </p:cNvCxnSpPr>
          <p:nvPr/>
        </p:nvCxnSpPr>
        <p:spPr>
          <a:xfrm flipV="1" rot="16200000">
            <a:off x="1515600" y="3809160"/>
            <a:ext cx="2942280" cy="2126160"/>
          </a:xfrm>
          <a:prstGeom prst="curvedConnector5">
            <a:avLst>
              <a:gd name="adj1" fmla="val 49963"/>
              <a:gd name="adj2" fmla="val 49991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Extensibility Requirements of XBRL as compared to other XML standard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0352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Par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Line Ite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te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Quantiti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mou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Discou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Tax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Delivery 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0040" y="1483920"/>
            <a:ext cx="40352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epreciation Schedu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Line Ite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sset nam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sset category*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Value brought forward**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Value limitation*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cquisition Da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Method*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Amou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Limitation*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Value carried forward**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Etc., etc., etc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"/>
          <p:cNvSpPr/>
          <p:nvPr/>
        </p:nvSpPr>
        <p:spPr>
          <a:xfrm>
            <a:off x="3106800" y="2209680"/>
            <a:ext cx="253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Meaning varies according to accounting principles appropriate to purpose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6800" y="4648320"/>
            <a:ext cx="253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* Name of otherwise identical concept varies by jurisdiction, not to mention nativ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736560" y="3733920"/>
            <a:ext cx="8159760" cy="17524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4440" y="1828800"/>
            <a:ext cx="2532240" cy="1828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dding a Concept in an Extension Taxonomy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119520" y="5809680"/>
            <a:ext cx="309312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sOfIntellectualProp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45880" y="842040"/>
            <a:ext cx="125820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3760" y="1971000"/>
            <a:ext cx="1892520" cy="679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4" idx="0"/>
            <a:endCxn id="323" idx="2"/>
          </p:cNvCxnSpPr>
          <p:nvPr/>
        </p:nvCxnSpPr>
        <p:spPr>
          <a:xfrm flipH="1" flipV="1" rot="5400000">
            <a:off x="1978560" y="384480"/>
            <a:ext cx="767520" cy="2426400"/>
          </a:xfrm>
          <a:prstGeom prst="curvedConnector5">
            <a:avLst>
              <a:gd name="adj1" fmla="val 49882"/>
              <a:gd name="adj2" fmla="val 49992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2640960" y="6347880"/>
            <a:ext cx="277920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esOfFinancial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59400" y="2733120"/>
            <a:ext cx="1892520" cy="679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7" idx="0"/>
            <a:endCxn id="323" idx="2"/>
          </p:cNvCxnSpPr>
          <p:nvPr/>
        </p:nvCxnSpPr>
        <p:spPr>
          <a:xfrm flipH="1" flipV="1" rot="5400000">
            <a:off x="1975320" y="1143000"/>
            <a:ext cx="1529640" cy="1670760"/>
          </a:xfrm>
          <a:prstGeom prst="curvedConnector5">
            <a:avLst>
              <a:gd name="adj1" fmla="val 49929"/>
              <a:gd name="adj2" fmla="val 50000"/>
              <a:gd name="adj3" fmla="val 499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2197440" y="3866040"/>
            <a:ext cx="1829880" cy="958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21320" y="4180320"/>
            <a:ext cx="1829880" cy="9583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-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stCxn id="326" idx="0"/>
            <a:endCxn id="330" idx="3"/>
          </p:cNvCxnSpPr>
          <p:nvPr/>
        </p:nvCxnSpPr>
        <p:spPr>
          <a:xfrm flipH="1" flipV="1" rot="5400000">
            <a:off x="3725280" y="5431680"/>
            <a:ext cx="1216800" cy="60732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22" idx="0"/>
            <a:endCxn id="329" idx="3"/>
          </p:cNvCxnSpPr>
          <p:nvPr/>
        </p:nvCxnSpPr>
        <p:spPr>
          <a:xfrm flipH="1" flipV="1" rot="5400000">
            <a:off x="1893240" y="4585680"/>
            <a:ext cx="992880" cy="1446840"/>
          </a:xfrm>
          <a:prstGeom prst="curvedConnector5">
            <a:avLst>
              <a:gd name="adj1" fmla="val 49909"/>
              <a:gd name="adj2" fmla="val 50000"/>
              <a:gd name="adj3" fmla="val 499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29" idx="0"/>
            <a:endCxn id="323" idx="2"/>
          </p:cNvCxnSpPr>
          <p:nvPr/>
        </p:nvCxnSpPr>
        <p:spPr>
          <a:xfrm flipH="1" flipV="1" rot="5400000">
            <a:off x="2012400" y="2314080"/>
            <a:ext cx="2663280" cy="462960"/>
          </a:xfrm>
          <a:prstGeom prst="curvedConnector5">
            <a:avLst>
              <a:gd name="adj1" fmla="val 49966"/>
              <a:gd name="adj2" fmla="val 49961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30" idx="0"/>
            <a:endCxn id="323" idx="2"/>
          </p:cNvCxnSpPr>
          <p:nvPr/>
        </p:nvCxnSpPr>
        <p:spPr>
          <a:xfrm flipV="1" rot="16200000">
            <a:off x="2617200" y="2170800"/>
            <a:ext cx="2977560" cy="1062720"/>
          </a:xfrm>
          <a:prstGeom prst="curvedConnector5">
            <a:avLst>
              <a:gd name="adj1" fmla="val 49963"/>
              <a:gd name="adj2" fmla="val 49983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5" name=""/>
          <p:cNvGrpSpPr/>
          <p:nvPr/>
        </p:nvGrpSpPr>
        <p:grpSpPr>
          <a:xfrm>
            <a:off x="736560" y="1213920"/>
            <a:ext cx="8237520" cy="5115240"/>
            <a:chOff x="736560" y="1213920"/>
            <a:chExt cx="8237520" cy="5115240"/>
          </a:xfrm>
        </p:grpSpPr>
        <p:sp>
          <p:nvSpPr>
            <p:cNvPr id="336" name=""/>
            <p:cNvSpPr/>
            <p:nvPr/>
          </p:nvSpPr>
          <p:spPr>
            <a:xfrm>
              <a:off x="736560" y="3733920"/>
              <a:ext cx="8159760" cy="175248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64720" y="1447920"/>
              <a:ext cx="1828800" cy="1295280"/>
            </a:xfrm>
            <a:prstGeom prst="foldedCorner">
              <a:avLst>
                <a:gd name="adj" fmla="val 125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79280" y="2914200"/>
              <a:ext cx="4112640" cy="337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rchasesOfFinancialAndIntellectualAs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62640" y="3875400"/>
              <a:ext cx="1892520" cy="958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ld-pa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ight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77320" y="1590120"/>
              <a:ext cx="1892520" cy="679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fini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ld-pa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1560" y="4180320"/>
              <a:ext cx="1892520" cy="958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ld-pa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ight=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"/>
            <p:cNvCxnSpPr>
              <a:stCxn id="326" idx="0"/>
              <a:endCxn id="341" idx="3"/>
            </p:cNvCxnSpPr>
            <p:nvPr/>
          </p:nvCxnSpPr>
          <p:spPr>
            <a:xfrm flipH="1" flipV="1" rot="5400000">
              <a:off x="5426640" y="3728880"/>
              <a:ext cx="1202400" cy="3998520"/>
            </a:xfrm>
            <a:prstGeom prst="curvedConnector5">
              <a:avLst>
                <a:gd name="adj1" fmla="val 49925"/>
                <a:gd name="adj2" fmla="val 50000"/>
                <a:gd name="adj3" fmla="val 49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>
              <a:stCxn id="322" idx="0"/>
              <a:endCxn id="339" idx="3"/>
            </p:cNvCxnSpPr>
            <p:nvPr/>
          </p:nvCxnSpPr>
          <p:spPr>
            <a:xfrm flipH="1" flipV="1" rot="5400000">
              <a:off x="3537360" y="2919240"/>
              <a:ext cx="969120" cy="4775400"/>
            </a:xfrm>
            <a:prstGeom prst="curvedConnector5">
              <a:avLst>
                <a:gd name="adj1" fmla="val 49981"/>
                <a:gd name="adj2" fmla="val 50000"/>
                <a:gd name="adj3" fmla="val 499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>
              <a:stCxn id="341" idx="0"/>
              <a:endCxn id="338" idx="2"/>
            </p:cNvCxnSpPr>
            <p:nvPr/>
          </p:nvCxnSpPr>
          <p:spPr>
            <a:xfrm flipV="1" rot="16200000">
              <a:off x="6921000" y="3084480"/>
              <a:ext cx="920160" cy="1293120"/>
            </a:xfrm>
            <a:prstGeom prst="curvedConnector5">
              <a:avLst>
                <a:gd name="adj1" fmla="val 49902"/>
                <a:gd name="adj2" fmla="val 49986"/>
                <a:gd name="adj3" fmla="val 4990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>
              <a:stCxn id="339" idx="0"/>
              <a:endCxn id="338" idx="2"/>
            </p:cNvCxnSpPr>
            <p:nvPr/>
          </p:nvCxnSpPr>
          <p:spPr>
            <a:xfrm flipH="1" flipV="1" rot="5400000">
              <a:off x="6264000" y="3416040"/>
              <a:ext cx="615240" cy="325440"/>
            </a:xfrm>
            <a:prstGeom prst="curvedConnector5">
              <a:avLst>
                <a:gd name="adj1" fmla="val 49824"/>
                <a:gd name="adj2" fmla="val 49944"/>
                <a:gd name="adj3" fmla="val 498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>
              <a:stCxn id="340" idx="0"/>
              <a:endCxn id="323" idx="2"/>
            </p:cNvCxnSpPr>
            <p:nvPr/>
          </p:nvCxnSpPr>
          <p:spPr>
            <a:xfrm flipV="1" rot="16200000">
              <a:off x="4305960" y="482040"/>
              <a:ext cx="386640" cy="1850040"/>
            </a:xfrm>
            <a:prstGeom prst="curvedConnector5">
              <a:avLst>
                <a:gd name="adj1" fmla="val 49767"/>
                <a:gd name="adj2" fmla="val 50000"/>
                <a:gd name="adj3" fmla="val 4976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7" name=""/>
            <p:cNvCxnSpPr>
              <a:stCxn id="338" idx="0"/>
              <a:endCxn id="340" idx="3"/>
            </p:cNvCxnSpPr>
            <p:nvPr/>
          </p:nvCxnSpPr>
          <p:spPr>
            <a:xfrm flipV="1" rot="16200000">
              <a:off x="5761080" y="1921320"/>
              <a:ext cx="637200" cy="1311120"/>
            </a:xfrm>
            <a:prstGeom prst="curvedConnector5">
              <a:avLst>
                <a:gd name="adj1" fmla="val 49858"/>
                <a:gd name="adj2" fmla="val 49986"/>
                <a:gd name="adj3" fmla="val 498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8" name=""/>
            <p:cNvSpPr/>
            <p:nvPr/>
          </p:nvSpPr>
          <p:spPr>
            <a:xfrm>
              <a:off x="3459600" y="3951000"/>
              <a:ext cx="2275200" cy="1237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ld-pa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=prohib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ority&gt;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35360" y="3789000"/>
              <a:ext cx="2275200" cy="1237320"/>
            </a:xfrm>
            <a:prstGeom prst="pentag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ild-pa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=prohibi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ority&gt;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0" name=""/>
          <p:cNvCxnSpPr>
            <a:stCxn id="322" idx="0"/>
            <a:endCxn id="324" idx="3"/>
          </p:cNvCxnSpPr>
          <p:nvPr/>
        </p:nvCxnSpPr>
        <p:spPr>
          <a:xfrm flipV="1" rot="16200000">
            <a:off x="-175320" y="3963240"/>
            <a:ext cx="3166200" cy="518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26" idx="0"/>
            <a:endCxn id="327" idx="3"/>
          </p:cNvCxnSpPr>
          <p:nvPr/>
        </p:nvCxnSpPr>
        <p:spPr>
          <a:xfrm flipV="1" rot="16200000">
            <a:off x="1496520" y="3809160"/>
            <a:ext cx="2942280" cy="2126160"/>
          </a:xfrm>
          <a:prstGeom prst="curvedConnector5">
            <a:avLst>
              <a:gd name="adj1" fmla="val 49963"/>
              <a:gd name="adj2" fmla="val 49991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xten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axonomie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207040" y="329400"/>
            <a:ext cx="1411200" cy="1144800"/>
          </a:xfrm>
          <a:custGeom>
            <a:avLst/>
            <a:gdLst>
              <a:gd name="textAreaLeft" fmla="*/ 310320 w 1411200"/>
              <a:gd name="textAreaRight" fmla="*/ 1100880 w 1411200"/>
              <a:gd name="textAreaTop" fmla="*/ 251640 h 1144800"/>
              <a:gd name="textAreaBottom" fmla="*/ 893160 h 11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6224760" y="2084400"/>
            <a:ext cx="2266560" cy="928440"/>
          </a:xfrm>
          <a:custGeom>
            <a:avLst/>
            <a:gdLst>
              <a:gd name="textAreaLeft" fmla="*/ 498240 w 2266560"/>
              <a:gd name="textAreaRight" fmla="*/ 1768320 w 226656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ase 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846800" y="3227400"/>
            <a:ext cx="1703520" cy="928440"/>
          </a:xfrm>
          <a:custGeom>
            <a:avLst/>
            <a:gdLst>
              <a:gd name="textAreaLeft" fmla="*/ 374400 w 1703520"/>
              <a:gd name="textAreaRight" fmla="*/ 1329120 w 170352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AS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isclo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32440" y="4599000"/>
            <a:ext cx="1796400" cy="928440"/>
          </a:xfrm>
          <a:custGeom>
            <a:avLst/>
            <a:gdLst>
              <a:gd name="textAreaLeft" fmla="*/ 394920 w 1796400"/>
              <a:gd name="textAreaRight" fmla="*/ 1401480 w 179640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AS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or Ba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603160" y="4599000"/>
            <a:ext cx="2209320" cy="928440"/>
          </a:xfrm>
          <a:custGeom>
            <a:avLst/>
            <a:gdLst>
              <a:gd name="textAreaLeft" fmla="*/ 485640 w 2209320"/>
              <a:gd name="textAreaRight" fmla="*/ 1723680 w 220932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AS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or Real E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6" idx="1"/>
            <a:endCxn id="355" idx="3"/>
          </p:cNvCxnSpPr>
          <p:nvPr/>
        </p:nvCxnSpPr>
        <p:spPr>
          <a:xfrm flipH="1" flipV="1" rot="5400000">
            <a:off x="1793160" y="3744360"/>
            <a:ext cx="540720" cy="12675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7" idx="1"/>
            <a:endCxn id="355" idx="3"/>
          </p:cNvCxnSpPr>
          <p:nvPr/>
        </p:nvCxnSpPr>
        <p:spPr>
          <a:xfrm flipV="1" rot="16200000">
            <a:off x="3199680" y="3830040"/>
            <a:ext cx="540720" cy="10962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5" idx="1"/>
            <a:endCxn id="361" idx="3"/>
          </p:cNvCxnSpPr>
          <p:nvPr/>
        </p:nvCxnSpPr>
        <p:spPr>
          <a:xfrm flipH="1" flipV="1" rot="5400000">
            <a:off x="3288960" y="2372760"/>
            <a:ext cx="311760" cy="14961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61" idx="1"/>
            <a:endCxn id="353" idx="3"/>
          </p:cNvCxnSpPr>
          <p:nvPr/>
        </p:nvCxnSpPr>
        <p:spPr>
          <a:xfrm flipH="1" flipV="1" rot="5400000">
            <a:off x="4698000" y="919440"/>
            <a:ext cx="708840" cy="172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4" idx="1"/>
            <a:endCxn id="353" idx="3"/>
          </p:cNvCxnSpPr>
          <p:nvPr/>
        </p:nvCxnSpPr>
        <p:spPr>
          <a:xfrm flipV="1" rot="16200000">
            <a:off x="6280200" y="1055880"/>
            <a:ext cx="708840" cy="144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"/>
          <p:cNvSpPr/>
          <p:nvPr/>
        </p:nvSpPr>
        <p:spPr>
          <a:xfrm flipV="1">
            <a:off x="3059280" y="2084400"/>
            <a:ext cx="2266560" cy="928440"/>
          </a:xfrm>
          <a:custGeom>
            <a:avLst/>
            <a:gdLst>
              <a:gd name="textAreaLeft" fmla="*/ 498240 w 2266560"/>
              <a:gd name="textAreaRight" fmla="*/ 1768320 w 226656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AS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ase 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084640" y="4599000"/>
            <a:ext cx="3320280" cy="928440"/>
          </a:xfrm>
          <a:custGeom>
            <a:avLst/>
            <a:gdLst>
              <a:gd name="textAreaLeft" fmla="*/ 730080 w 3320280"/>
              <a:gd name="textAreaRight" fmla="*/ 2590200 w 332028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utch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otes and Disclos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046480" y="3227400"/>
            <a:ext cx="2267280" cy="928440"/>
          </a:xfrm>
          <a:custGeom>
            <a:avLst/>
            <a:gdLst>
              <a:gd name="textAreaLeft" fmla="*/ 498600 w 2267280"/>
              <a:gd name="textAreaRight" fmla="*/ 1768680 w 2267280"/>
              <a:gd name="textAreaTop" fmla="*/ 204120 h 928440"/>
              <a:gd name="textAreaBottom" fmla="*/ 72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utch GA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ase 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5" idx="1"/>
            <a:endCxn id="361" idx="3"/>
          </p:cNvCxnSpPr>
          <p:nvPr/>
        </p:nvCxnSpPr>
        <p:spPr>
          <a:xfrm flipV="1" rot="16200000">
            <a:off x="5462280" y="2043720"/>
            <a:ext cx="311760" cy="215352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4" idx="1"/>
            <a:endCxn id="365" idx="3"/>
          </p:cNvCxnSpPr>
          <p:nvPr/>
        </p:nvCxnSpPr>
        <p:spPr>
          <a:xfrm flipV="1" rot="16200000">
            <a:off x="6730560" y="4071240"/>
            <a:ext cx="540720" cy="61344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4" idx="1"/>
            <a:endCxn id="355" idx="3"/>
          </p:cNvCxnSpPr>
          <p:nvPr/>
        </p:nvCxnSpPr>
        <p:spPr>
          <a:xfrm flipV="1" rot="16200000">
            <a:off x="4844520" y="2185200"/>
            <a:ext cx="540720" cy="4385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Links relevant to instance data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92468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71240" y="907920"/>
            <a:ext cx="8204040" cy="31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Lucida Sans Unicode"/>
              </a:rPr>
              <a:t>XBRL for the 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Lucida Sans Unicode"/>
              </a:rPr>
              <a:t>XML-Savvy</a:t>
            </a:r>
            <a:endParaRPr b="1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69800" y="4219560"/>
            <a:ext cx="820584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Walter Hamsch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Lucida Sans Unicode"/>
              </a:rPr>
              <a:t>walter@hamscher.co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Chair, Steering Committee, XBRL Internation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Consultant to PricewaterhouseCoop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5257800" y="2743200"/>
            <a:ext cx="2971800" cy="3809880"/>
            <a:chOff x="5257800" y="2743200"/>
            <a:chExt cx="2971800" cy="3809880"/>
          </a:xfrm>
        </p:grpSpPr>
        <p:sp>
          <p:nvSpPr>
            <p:cNvPr id="97" name=""/>
            <p:cNvSpPr/>
            <p:nvPr/>
          </p:nvSpPr>
          <p:spPr>
            <a:xfrm>
              <a:off x="5257800" y="2743200"/>
              <a:ext cx="2971800" cy="38098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Taxonom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5791320"/>
              <a:ext cx="1575000" cy="533160"/>
            </a:xfrm>
            <a:prstGeom prst="beve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343400" y="1828800"/>
            <a:ext cx="2971800" cy="38098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828800"/>
            <a:ext cx="2971800" cy="342900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ce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3581280"/>
            <a:ext cx="2514600" cy="15242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209680"/>
            <a:ext cx="2100240" cy="12859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BRL Fundamentals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0273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XBRL is the way that it is because </a:t>
            </a:r>
            <a:r>
              <a:rPr b="0" i="1" lang="en-GB" sz="2000" spc="-1" strike="noStrike">
                <a:solidFill>
                  <a:srgbClr val="000000"/>
                </a:solidFill>
                <a:latin typeface="Lucida Sans Unicode"/>
              </a:rPr>
              <a:t>business reporting concepts</a:t>
            </a: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 are extensibl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483920"/>
            <a:ext cx="402732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Meta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"/>
          <p:cNvSpPr/>
          <p:nvPr/>
        </p:nvSpPr>
        <p:spPr>
          <a:xfrm>
            <a:off x="6840360" y="1600200"/>
            <a:ext cx="2210040" cy="2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9" y="27525"/>
                </a:moveTo>
                <a:lnTo>
                  <a:pt x="20483" y="27525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abel a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1981080"/>
            <a:ext cx="2209680" cy="2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9" y="27525"/>
                </a:moveTo>
                <a:lnTo>
                  <a:pt x="20483" y="27525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362320"/>
            <a:ext cx="2209680" cy="27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9" y="27525"/>
                </a:moveTo>
                <a:lnTo>
                  <a:pt x="20483" y="27525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743200"/>
            <a:ext cx="2209680" cy="2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9" y="27525"/>
                </a:moveTo>
                <a:lnTo>
                  <a:pt x="20483" y="27525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resentation Hier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124080"/>
            <a:ext cx="2209680" cy="2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9" y="27525"/>
                </a:moveTo>
                <a:lnTo>
                  <a:pt x="20483" y="27525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alculation Hier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05320"/>
            <a:ext cx="2209680" cy="27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219" y="27525"/>
                </a:moveTo>
                <a:lnTo>
                  <a:pt x="20483" y="27525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ata types, normal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84480" y="3724200"/>
            <a:ext cx="687240" cy="44892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1320" y="4257360"/>
            <a:ext cx="687240" cy="44928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8880" y="3952800"/>
            <a:ext cx="687240" cy="44892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3360" y="2581200"/>
            <a:ext cx="687240" cy="44892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66920" y="2352600"/>
            <a:ext cx="687240" cy="448920"/>
          </a:xfrm>
          <a:prstGeom prst="cube">
            <a:avLst>
              <a:gd name="adj" fmla="val 2500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21400" y="1905120"/>
            <a:ext cx="1041480" cy="1981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819520"/>
            <a:ext cx="1041120" cy="160020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4343400"/>
            <a:ext cx="1041480" cy="7621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0" name=""/>
          <p:cNvCxnSpPr>
            <a:stCxn id="121" idx="1"/>
            <a:endCxn id="122" idx="0"/>
          </p:cNvCxnSpPr>
          <p:nvPr/>
        </p:nvCxnSpPr>
        <p:spPr>
          <a:xfrm flipH="1">
            <a:off x="1980720" y="1294920"/>
            <a:ext cx="320112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21" idx="1"/>
            <a:endCxn id="124" idx="0"/>
          </p:cNvCxnSpPr>
          <p:nvPr/>
        </p:nvCxnSpPr>
        <p:spPr>
          <a:xfrm flipH="1">
            <a:off x="1980720" y="1295280"/>
            <a:ext cx="32011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"/>
          <p:cNvCxnSpPr>
            <a:stCxn id="121" idx="1"/>
            <a:endCxn id="126" idx="0"/>
          </p:cNvCxnSpPr>
          <p:nvPr/>
        </p:nvCxnSpPr>
        <p:spPr>
          <a:xfrm flipH="1">
            <a:off x="1980720" y="1294920"/>
            <a:ext cx="32011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endCxn id="128" idx="0"/>
          </p:cNvCxnSpPr>
          <p:nvPr/>
        </p:nvCxnSpPr>
        <p:spPr>
          <a:xfrm flipH="1">
            <a:off x="1980360" y="1523520"/>
            <a:ext cx="297252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"/>
          <p:cNvCxnSpPr>
            <a:endCxn id="130" idx="0"/>
          </p:cNvCxnSpPr>
          <p:nvPr/>
        </p:nvCxnSpPr>
        <p:spPr>
          <a:xfrm flipH="1">
            <a:off x="1980360" y="1523520"/>
            <a:ext cx="2972520" cy="358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32" idx="2"/>
            <a:endCxn id="133" idx="0"/>
          </p:cNvCxnSpPr>
          <p:nvPr/>
        </p:nvCxnSpPr>
        <p:spPr>
          <a:xfrm flipH="1">
            <a:off x="5219280" y="4191120"/>
            <a:ext cx="876960" cy="16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Lucida Sans Unicode"/>
              </a:rPr>
              <a:t>XBRL Fil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914400"/>
            <a:ext cx="190512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066680"/>
            <a:ext cx="1401480" cy="838440"/>
          </a:xfrm>
          <a:prstGeom prst="flowChartDocumen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990720"/>
            <a:ext cx="2438640" cy="685800"/>
          </a:xfrm>
          <a:prstGeom prst="leftArrow">
            <a:avLst>
              <a:gd name="adj1" fmla="val 50000"/>
              <a:gd name="adj2" fmla="val 8889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chema vali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990720"/>
            <a:ext cx="106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usiness data expressed in XB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91440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Business terms, definitions and underlying authoritative literature expressed in XML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362320"/>
            <a:ext cx="2286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brl-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2362320"/>
            <a:ext cx="167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yntax of an instanc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3581280"/>
            <a:ext cx="2286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brl-link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3657600"/>
            <a:ext cx="143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yntax of a link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800600"/>
            <a:ext cx="12952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58672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541008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yntax of an XLink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867280"/>
            <a:ext cx="1295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.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59436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yntax of an XM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78560" y="4724280"/>
            <a:ext cx="241560" cy="1828800"/>
          </a:xfrm>
          <a:custGeom>
            <a:avLst/>
            <a:gdLst>
              <a:gd name="textAreaLeft" fmla="*/ 0 w 241560"/>
              <a:gd name="textAreaRight" fmla="*/ 87120 w 241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514600"/>
            <a:ext cx="25909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reference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Authoritative 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25909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label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Human-readable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124080"/>
            <a:ext cx="25909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calculation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Mathematical re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809880"/>
            <a:ext cx="2590920" cy="609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presentation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Presentation or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495680"/>
            <a:ext cx="25909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efinition.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oncept general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2" idx="2"/>
            <a:endCxn id="143" idx="0"/>
          </p:cNvCxnSpPr>
          <p:nvPr/>
        </p:nvCxnSpPr>
        <p:spPr>
          <a:xfrm>
            <a:off x="6590880" y="5410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2" idx="2"/>
            <a:endCxn id="142" idx="0"/>
          </p:cNvCxnSpPr>
          <p:nvPr/>
        </p:nvCxnSpPr>
        <p:spPr>
          <a:xfrm>
            <a:off x="6095880" y="4190760"/>
            <a:ext cx="496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32" idx="0"/>
          </p:cNvCxnSpPr>
          <p:nvPr/>
        </p:nvCxnSpPr>
        <p:spPr>
          <a:xfrm>
            <a:off x="6095520" y="29714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179400" y="43434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26760" y="54864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6760" y="31240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21" idx="2"/>
            <a:endCxn id="139" idx="0"/>
          </p:cNvCxnSpPr>
          <p:nvPr/>
        </p:nvCxnSpPr>
        <p:spPr>
          <a:xfrm flipH="1">
            <a:off x="6095520" y="1676160"/>
            <a:ext cx="38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5722200" y="19051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6400" y="5257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32" idx="1"/>
            <a:endCxn id="130" idx="3"/>
          </p:cNvCxnSpPr>
          <p:nvPr/>
        </p:nvCxnSpPr>
        <p:spPr>
          <a:xfrm flipH="1">
            <a:off x="3276360" y="3886200"/>
            <a:ext cx="1676880" cy="148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32" idx="1"/>
            <a:endCxn id="122" idx="3"/>
          </p:cNvCxnSpPr>
          <p:nvPr/>
        </p:nvCxnSpPr>
        <p:spPr>
          <a:xfrm flipH="1" flipV="1">
            <a:off x="3276360" y="2780640"/>
            <a:ext cx="167688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32" idx="1"/>
            <a:endCxn id="124" idx="3"/>
          </p:cNvCxnSpPr>
          <p:nvPr/>
        </p:nvCxnSpPr>
        <p:spPr>
          <a:xfrm flipH="1" flipV="1">
            <a:off x="3276360" y="3428640"/>
            <a:ext cx="1676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2" idx="1"/>
            <a:endCxn id="126" idx="3"/>
          </p:cNvCxnSpPr>
          <p:nvPr/>
        </p:nvCxnSpPr>
        <p:spPr>
          <a:xfrm flipH="1">
            <a:off x="3276360" y="3885840"/>
            <a:ext cx="1676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32" idx="1"/>
            <a:endCxn id="128" idx="3"/>
          </p:cNvCxnSpPr>
          <p:nvPr/>
        </p:nvCxnSpPr>
        <p:spPr>
          <a:xfrm flipH="1">
            <a:off x="3276360" y="3886200"/>
            <a:ext cx="167688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3895200" y="38098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i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21760" y="175248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Refers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14800" y="1600200"/>
            <a:ext cx="2819520" cy="28195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Incl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572000"/>
            <a:ext cx="1752480" cy="16509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29468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XBRL Specification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W3 Specifications</a:t>
            </a:r>
            <a:endParaRPr b="1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1600200"/>
            <a:ext cx="2819520" cy="28195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4444920"/>
            <a:ext cx="1752840" cy="165096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590920"/>
            <a:ext cx="3352680" cy="3276360"/>
          </a:xfrm>
          <a:prstGeom prst="ellipse">
            <a:avLst/>
          </a:prstGeom>
          <a:solidFill>
            <a:srgbClr val="ffcc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819520"/>
            <a:ext cx="2819520" cy="2819160"/>
          </a:xfrm>
          <a:prstGeom prst="ellipse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BRL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066680" y="35812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4800600"/>
            <a:ext cx="2895480" cy="1447920"/>
          </a:xfrm>
          <a:prstGeom prst="wedgeRectCallout">
            <a:avLst>
              <a:gd name="adj1" fmla="val -83828"/>
              <a:gd name="adj2" fmla="val -4879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BRL specification assumes knowledge of XML, so it does not discuss it much. Many areas of XML are not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5520"/>
            <a:ext cx="1981440" cy="1295280"/>
          </a:xfrm>
          <a:prstGeom prst="wedgeRoundRectCallout">
            <a:avLst>
              <a:gd name="adj1" fmla="val 61777"/>
              <a:gd name="adj2" fmla="val -78675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BRL uses only a small portion of XLink, covers the topic extens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581280"/>
            <a:ext cx="129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ifference between Spec and what is used from XML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914400"/>
            <a:ext cx="4648320" cy="1523880"/>
          </a:xfrm>
          <a:prstGeom prst="wedgeEllipseCallout">
            <a:avLst>
              <a:gd name="adj1" fmla="val -63833"/>
              <a:gd name="adj2" fmla="val 685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BRL specification assumes knowledge of XML Schema, and practical usage anticipates it: data types, enumerations,  restri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520" y="1836720"/>
            <a:ext cx="159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ML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Content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25640" y="3343320"/>
            <a:ext cx="109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ML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Raw XBRL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"/>
          <p:cNvSpPr/>
          <p:nvPr/>
        </p:nvSpPr>
        <p:spPr>
          <a:xfrm>
            <a:off x="422280" y="1219320"/>
            <a:ext cx="7596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10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49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44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99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noncur.cr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2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63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12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07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lb.provisions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181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613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583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196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5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acq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1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0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95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7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.cy01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8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c.cn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.cy00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7000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.cy00.us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8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.cy00h1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4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numericContext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.cy00h2.hkd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000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800000"/>
                </a:solidFill>
                <a:latin typeface="Arial"/>
              </a:rPr>
              <a:t>gaap:op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0" y="3124080"/>
            <a:ext cx="91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0" lang="en-US" sz="2800" spc="-1" strike="noStrike">
                <a:solidFill>
                  <a:srgbClr val="800000"/>
                </a:solidFill>
                <a:latin typeface="Arial Narrow"/>
              </a:rPr>
              <a:t>gaap:opc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numericContext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="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g.cy01.hkd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"&gt;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-3583000000.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0" lang="en-US" sz="2800" spc="-1" strike="noStrike">
                <a:solidFill>
                  <a:srgbClr val="800000"/>
                </a:solidFill>
                <a:latin typeface="Arial Narrow"/>
              </a:rPr>
              <a:t>gaap:opc</a:t>
            </a:r>
            <a:r>
              <a:rPr b="0" lang="en-US" sz="28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08680" y="4572000"/>
            <a:ext cx="2990880" cy="1800360"/>
          </a:xfrm>
          <a:prstGeom prst="wedgeRoundRectCallout">
            <a:avLst>
              <a:gd name="adj1" fmla="val -47648"/>
              <a:gd name="adj2" fmla="val -106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rding to G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Cost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k Gravel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 Year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HKD = 3,583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ore Raw XBRL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"/>
          <p:cNvSpPr/>
          <p:nvPr/>
        </p:nvSpPr>
        <p:spPr>
          <a:xfrm>
            <a:off x="281160" y="1447920"/>
            <a:ext cx="8405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Link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bble Pow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 1 link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mlns:xbrl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xbrl.org/2001/XLink/xbrllinkbas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mlns:xlin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w3.org/1999/xlin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2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3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4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5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6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7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8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 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ml:lan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 of joint ventures revenue excludes amounts invoiced to Pebble Power.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stille 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ml:lan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a quote part des revenus dans les joint ventures exclue les montants facturés à Pebble Pow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Ar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from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o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-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arc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xbrl.org/linkprops/arc/fact-footn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show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actua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Reques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Lin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16480" y="5105520"/>
            <a:ext cx="3587760" cy="1495440"/>
          </a:xfrm>
          <a:prstGeom prst="wedgeRoundRectCallout">
            <a:avLst>
              <a:gd name="adj1" fmla="val -65930"/>
              <a:gd name="adj2" fmla="val -11199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ootnote that indicates which of the revenue amounts reported here exclude the amounts invoiced to a related party, Pebble Power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1120" y="2955960"/>
            <a:ext cx="886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xbrll:foot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link:typ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note 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link:rol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xml:la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of joint ventures revenue excludes amounts invoiced to Pebble Power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ore Raw XBRL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"/>
          <p:cNvSpPr/>
          <p:nvPr/>
        </p:nvSpPr>
        <p:spPr>
          <a:xfrm>
            <a:off x="281160" y="1447920"/>
            <a:ext cx="8405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Link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de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bble Pow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 1 link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mlns:xbrl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xbrl.org/2001/XLink/xbrllinkbas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mlns:xlin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w3.org/1999/xlin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2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3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4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5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6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7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lo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o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href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jv8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 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ml:lan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 of joint ventures revenue excludes amounts invoiced to Pebble Power.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stille 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xml:lan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La quote part des revenus dans les joint ventures exclue les montants facturés à Pebble Pow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Arc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yp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from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o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1-footnote1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arcrol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xbrl.org/linkprops/arc/fact-footno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show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xlink:actua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Reques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xbrll:footnoteLin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1120" y="2955960"/>
            <a:ext cx="8861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xbrll:foot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link:typ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xlink:labe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note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xlink:titl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note 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link:rol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xml:la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 of joint ventures revenue excludes amounts invoiced to Pebble Power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xbrll:footnot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16480" y="5105520"/>
            <a:ext cx="3587760" cy="1495440"/>
          </a:xfrm>
          <a:prstGeom prst="wedgeRoundRectCallout">
            <a:avLst>
              <a:gd name="adj1" fmla="val -65930"/>
              <a:gd name="adj2" fmla="val -11199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ootnote that indicates which of the revenue amounts reported here exclude the amounts invoiced to a related party, Pebble Power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2946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One Last Serving of Raw XBRL</a:t>
            </a:r>
            <a:endParaRPr b="1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"/>
          <p:cNvSpPr/>
          <p:nvPr/>
        </p:nvSpPr>
        <p:spPr>
          <a:xfrm>
            <a:off x="492120" y="1371600"/>
            <a:ext cx="71042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ericContex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g.cy00.hk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cwa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precisio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ntit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identifie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sche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ov.hk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identifi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ntit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erio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tartDat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-01-0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tartDat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ndDat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-12-3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ndDat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erio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uni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measur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4217:hkd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measur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uni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ericContex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94280" y="4572000"/>
            <a:ext cx="2990880" cy="1800360"/>
          </a:xfrm>
          <a:prstGeom prst="wedgeRoundRectCallout">
            <a:avLst>
              <a:gd name="adj1" fmla="val -80328"/>
              <a:gd name="adj2" fmla="val -139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k Gravel 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od from 1 Jan 2000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Dec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HK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se to 4 dig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14:24Z</dcterms:created>
  <dc:creator>Walter Hamscher</dc:creator>
  <dc:description>(c) 2002 XBRL International</dc:description>
  <dc:language>en-US</dc:language>
  <cp:lastModifiedBy>Walter Hamscher</cp:lastModifiedBy>
  <dcterms:modified xsi:type="dcterms:W3CDTF">2002-11-19T19:42:25Z</dcterms:modified>
  <cp:revision>29</cp:revision>
  <dc:subject/>
  <dc:title>Worldwide Adoption</dc:title>
</cp:coreProperties>
</file>